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5.wmf" ContentType="image/x-wmf"/>
  <Override PartName="/ppt/media/image78.png" ContentType="image/png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47.wmf" ContentType="image/x-wmf"/>
  <Override PartName="/ppt/media/image1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28.wmf" ContentType="image/x-wmf"/>
  <Override PartName="/ppt/media/image70.wmf" ContentType="image/x-wmf"/>
  <Override PartName="/ppt/media/image65.wmf" ContentType="image/x-wmf"/>
  <Override PartName="/ppt/media/image79.wmf" ContentType="image/x-wmf"/>
  <Override PartName="/ppt/media/image67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5.png" ContentType="image/png"/>
  <Override PartName="/ppt/media/image74.wmf" ContentType="image/x-wmf"/>
  <Override PartName="/ppt/media/image4.png" ContentType="image/png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66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80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6248520"/>
            <a:ext cx="5651640" cy="88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62960" y="635472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12040" y="5965920"/>
            <a:ext cx="174600" cy="5461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8381520" y="6173640"/>
            <a:ext cx="434880" cy="523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0c0c0c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35840" y="6238800"/>
            <a:ext cx="2628720" cy="147600"/>
          </a:xfrm>
          <a:prstGeom prst="rect">
            <a:avLst/>
          </a:prstGeom>
          <a:gradFill rotWithShape="0">
            <a:gsLst>
              <a:gs pos="0">
                <a:srgbClr val="0c0c12"/>
              </a:gs>
              <a:gs pos="50000">
                <a:srgbClr val="666699"/>
              </a:gs>
              <a:gs pos="100000">
                <a:srgbClr val="0c0c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254640" y="6105600"/>
            <a:ext cx="24004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Multimedia Tea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" name=""/>
          <p:cNvSpPr/>
          <p:nvPr/>
        </p:nvSpPr>
        <p:spPr>
          <a:xfrm>
            <a:off x="6059520" y="6373800"/>
            <a:ext cx="21225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G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S    &amp;     I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ko-KR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6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00200" y="749160"/>
            <a:ext cx="7162920" cy="763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HLClogo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49480" cy="4953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8542440" y="5938920"/>
            <a:ext cx="162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Wingdings"/>
                <a:ea typeface="Wingdings"/>
              </a:rPr>
              <a:t>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643960" y="5978520"/>
            <a:ext cx="162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bcbcb"/>
                </a:solidFill>
                <a:latin typeface="Wingdings"/>
                <a:ea typeface="Wingdings"/>
              </a:rPr>
              <a:t>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720280" y="6054840"/>
            <a:ext cx="161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Wingdings"/>
                <a:ea typeface="Wingdings"/>
              </a:rPr>
              <a:t>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83640" y="6143760"/>
            <a:ext cx="162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46120" y="6383160"/>
            <a:ext cx="406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작성자의 허락업이 무단 전제나 사용을 금합니다   </a:t>
            </a:r>
            <a:r>
              <a:rPr b="0" i="1" lang="ko-KR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- </a:t>
            </a:r>
            <a:r>
              <a:rPr b="0" i="1" lang="ko-KR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유 현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436680" y="6419880"/>
            <a:ext cx="155520" cy="1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28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image" Target="../media/image40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42.wmf"/><Relationship Id="rId3" Type="http://schemas.openxmlformats.org/officeDocument/2006/relationships/image" Target="../media/image15.wmf"/><Relationship Id="rId4" Type="http://schemas.openxmlformats.org/officeDocument/2006/relationships/image" Target="../media/image20.wmf"/><Relationship Id="rId5" Type="http://schemas.openxmlformats.org/officeDocument/2006/relationships/image" Target="../media/image43.wmf"/><Relationship Id="rId6" Type="http://schemas.openxmlformats.org/officeDocument/2006/relationships/image" Target="../media/image21.wmf"/><Relationship Id="rId7" Type="http://schemas.openxmlformats.org/officeDocument/2006/relationships/image" Target="../media/image17.wmf"/><Relationship Id="rId8" Type="http://schemas.openxmlformats.org/officeDocument/2006/relationships/image" Target="../media/image22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image" Target="../media/image6.wmf"/><Relationship Id="rId15" Type="http://schemas.openxmlformats.org/officeDocument/2006/relationships/image" Target="../media/image19.wmf"/><Relationship Id="rId16" Type="http://schemas.openxmlformats.org/officeDocument/2006/relationships/image" Target="../media/image49.wmf"/><Relationship Id="rId17" Type="http://schemas.openxmlformats.org/officeDocument/2006/relationships/image" Target="../media/image50.wmf"/><Relationship Id="rId18" Type="http://schemas.openxmlformats.org/officeDocument/2006/relationships/image" Target="../media/image51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69.wmf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wmf"/><Relationship Id="rId13" Type="http://schemas.openxmlformats.org/officeDocument/2006/relationships/image" Target="../media/image44.wmf"/><Relationship Id="rId14" Type="http://schemas.openxmlformats.org/officeDocument/2006/relationships/image" Target="../media/image74.wmf"/><Relationship Id="rId15" Type="http://schemas.openxmlformats.org/officeDocument/2006/relationships/image" Target="../media/image75.wmf"/><Relationship Id="rId16" Type="http://schemas.openxmlformats.org/officeDocument/2006/relationships/image" Target="../media/image76.wm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45360" y="1544760"/>
            <a:ext cx="2068560" cy="22413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628560" y="1890720"/>
            <a:ext cx="5356080" cy="1089000"/>
            <a:chOff x="628560" y="1890720"/>
            <a:chExt cx="5356080" cy="1089000"/>
          </a:xfrm>
        </p:grpSpPr>
        <p:sp>
          <p:nvSpPr>
            <p:cNvPr id="91" name=""/>
            <p:cNvSpPr/>
            <p:nvPr/>
          </p:nvSpPr>
          <p:spPr>
            <a:xfrm>
              <a:off x="628560" y="1890720"/>
              <a:ext cx="5356080" cy="108900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50000">
                  <a:srgbClr val="cbcbcb"/>
                </a:gs>
                <a:gs pos="100000">
                  <a:srgbClr val="86868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035000" y="2162160"/>
              <a:ext cx="457200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굴림"/>
                </a:rPr>
                <a:t>좋은 게임 만들기</a:t>
              </a:r>
              <a:endPara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굴림"/>
                <a:ea typeface="굴림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27760" y="825480"/>
            <a:ext cx="874800" cy="1670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923080" y="3224160"/>
            <a:ext cx="985680" cy="986040"/>
          </a:xfrm>
          <a:prstGeom prst="rect">
            <a:avLst/>
          </a:prstGeom>
          <a:ln w="0">
            <a:noFill/>
          </a:ln>
        </p:spPr>
      </p:pic>
      <p:pic>
        <p:nvPicPr>
          <p:cNvPr id="95" name="HLClogo" descr=""/>
          <p:cNvPicPr/>
          <p:nvPr/>
        </p:nvPicPr>
        <p:blipFill>
          <a:blip r:embed="rId4"/>
          <a:stretch/>
        </p:blipFill>
        <p:spPr>
          <a:xfrm>
            <a:off x="4005360" y="5356080"/>
            <a:ext cx="1149120" cy="495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78160" y="5959440"/>
            <a:ext cx="257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돋움"/>
              </a:rPr>
              <a:t>효성생활산업 멀티미디어 사업팀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돋움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92560" y="6159600"/>
            <a:ext cx="257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게임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R&amp;D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담당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-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유 현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49440" y="419040"/>
            <a:ext cx="1336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돋움"/>
              </a:rPr>
              <a:t>마케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마케팅이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01920" y="3301920"/>
            <a:ext cx="4330800" cy="198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4684680"/>
            <a:ext cx="2187720" cy="11257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82640" y="4595760"/>
            <a:ext cx="898560" cy="270000"/>
          </a:xfrm>
          <a:custGeom>
            <a:avLst/>
            <a:gdLst>
              <a:gd name="textAreaLeft" fmla="*/ 0 w 898560"/>
              <a:gd name="textAreaRight" fmla="*/ 898920 w 898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가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65360" y="4794120"/>
            <a:ext cx="1425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투자비 산정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가격 정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2000" y="4684680"/>
            <a:ext cx="2187720" cy="11257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0760" y="4595760"/>
            <a:ext cx="898560" cy="270000"/>
          </a:xfrm>
          <a:custGeom>
            <a:avLst/>
            <a:gdLst>
              <a:gd name="textAreaLeft" fmla="*/ 0 w 898560"/>
              <a:gd name="textAreaRight" fmla="*/ 898920 w 898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홍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13480" y="4794120"/>
            <a:ext cx="1425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판촉 방법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홍보 방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72000" y="2805120"/>
            <a:ext cx="2187720" cy="11253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0760" y="2716200"/>
            <a:ext cx="898560" cy="270000"/>
          </a:xfrm>
          <a:custGeom>
            <a:avLst/>
            <a:gdLst>
              <a:gd name="textAreaLeft" fmla="*/ 0 w 898560"/>
              <a:gd name="textAreaRight" fmla="*/ 898920 w 898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제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13480" y="2914560"/>
            <a:ext cx="1425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경쟁사 게임 조사 분석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게임의 장르및 내용 설정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게임의 차별화 전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2805120"/>
            <a:ext cx="2187720" cy="11253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82640" y="2716200"/>
            <a:ext cx="898560" cy="270000"/>
          </a:xfrm>
          <a:custGeom>
            <a:avLst/>
            <a:gdLst>
              <a:gd name="textAreaLeft" fmla="*/ 0 w 898560"/>
              <a:gd name="textAreaRight" fmla="*/ 898920 w 898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지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5360" y="2914560"/>
            <a:ext cx="1425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시장 동향 조사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소비자 선정 및 취향 조사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게임의 컨셉 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69840" y="1616040"/>
            <a:ext cx="7475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과거 제품이 적었던 시절에는 소비자의 선택 폭이 좁았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그래서 특별한 판촉전략이나 가격 경쟁이 없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현재는 제품의 수가 매우 많고 또한 퀄리티도 상당히 고급화 다양화 되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제품의 홍수 시대에 소비자 마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다양화 되어 매우 우수한 퀄리티와 뛰어난 홍보전략이 없으면 알려지기도 전에 빛도 못보고 제품이 사장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그래서 등장한 것이 마케팅 기법이고 시간이 지나면 지날 수록 그 중요성은 더더욱 커질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04240" y="379440"/>
            <a:ext cx="944280" cy="263520"/>
          </a:xfrm>
          <a:custGeom>
            <a:avLst/>
            <a:gdLst>
              <a:gd name="textAreaLeft" fmla="*/ 0 w 944280"/>
              <a:gd name="textAreaRight" fmla="*/ 944640 w 9442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마케팅이란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08760" y="379440"/>
            <a:ext cx="928800" cy="263520"/>
          </a:xfrm>
          <a:custGeom>
            <a:avLst/>
            <a:gdLst>
              <a:gd name="textAreaLeft" fmla="*/ 0 w 928800"/>
              <a:gd name="textAreaRight" fmla="*/ 929160 w 9288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마케팅 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032360" y="3481560"/>
            <a:ext cx="1123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굴림"/>
              </a:rPr>
              <a:t>소비자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굴림"/>
              <a:ea typeface="굴림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371840" y="3913200"/>
            <a:ext cx="412920" cy="13352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2941560" y="4479840"/>
            <a:ext cx="704880" cy="639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823080" y="4375080"/>
            <a:ext cx="1062000" cy="752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3143160" y="2527200"/>
            <a:ext cx="627120" cy="630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6924600" y="2498760"/>
            <a:ext cx="8841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397320" y="4165560"/>
            <a:ext cx="2511360" cy="174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35840" y="4170240"/>
            <a:ext cx="2535120" cy="174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2440" y="4173480"/>
            <a:ext cx="2511360" cy="174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94080" y="1884240"/>
            <a:ext cx="2511360" cy="17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18200" y="1889280"/>
            <a:ext cx="2511360" cy="17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6600" y="1892160"/>
            <a:ext cx="2511360" cy="17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마케팅 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9600" y="1501920"/>
            <a:ext cx="2522520" cy="31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타겟 지역조사 및 분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60600" y="1501920"/>
            <a:ext cx="2524320" cy="31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소비자 선정 및 분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13520" y="1501920"/>
            <a:ext cx="2509920" cy="31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경쟁사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게임 분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893000" y="1976400"/>
            <a:ext cx="642960" cy="739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03360" y="3781440"/>
            <a:ext cx="249876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게임 차별화 전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284560" y="4213080"/>
            <a:ext cx="779400" cy="792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386160" y="3781440"/>
            <a:ext cx="250812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유통 전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38720" y="3781440"/>
            <a:ext cx="251460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홍보 전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7816680" y="4226040"/>
            <a:ext cx="795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1847880" y="1916280"/>
            <a:ext cx="1215720" cy="784080"/>
            <a:chOff x="1847880" y="1916280"/>
            <a:chExt cx="1215720" cy="784080"/>
          </a:xfrm>
        </p:grpSpPr>
        <p:pic>
          <p:nvPicPr>
            <p:cNvPr id="346" name="" descr=""/>
            <p:cNvPicPr/>
            <p:nvPr/>
          </p:nvPicPr>
          <p:blipFill>
            <a:blip r:embed="rId4"/>
            <a:stretch/>
          </p:blipFill>
          <p:spPr>
            <a:xfrm>
              <a:off x="2184840" y="1986480"/>
              <a:ext cx="513360" cy="64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5"/>
            <a:stretch/>
          </p:blipFill>
          <p:spPr>
            <a:xfrm>
              <a:off x="1847880" y="2187000"/>
              <a:ext cx="540720" cy="51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6"/>
            <a:stretch/>
          </p:blipFill>
          <p:spPr>
            <a:xfrm>
              <a:off x="2553120" y="2201400"/>
              <a:ext cx="510480" cy="48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7"/>
            <a:stretch/>
          </p:blipFill>
          <p:spPr>
            <a:xfrm>
              <a:off x="2138400" y="1916280"/>
              <a:ext cx="281160" cy="30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"/>
          <p:cNvGrpSpPr/>
          <p:nvPr/>
        </p:nvGrpSpPr>
        <p:grpSpPr>
          <a:xfrm>
            <a:off x="4768920" y="1925640"/>
            <a:ext cx="1080720" cy="756720"/>
            <a:chOff x="4768920" y="1925640"/>
            <a:chExt cx="1080720" cy="756720"/>
          </a:xfrm>
        </p:grpSpPr>
        <p:sp>
          <p:nvSpPr>
            <p:cNvPr id="351" name=""/>
            <p:cNvSpPr/>
            <p:nvPr/>
          </p:nvSpPr>
          <p:spPr>
            <a:xfrm>
              <a:off x="5028480" y="2070360"/>
              <a:ext cx="581760" cy="612000"/>
            </a:xfrm>
            <a:prstGeom prst="cloudCallout">
              <a:avLst>
                <a:gd name="adj1" fmla="val -43555"/>
                <a:gd name="adj2" fmla="val 4971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8"/>
            <a:stretch/>
          </p:blipFill>
          <p:spPr>
            <a:xfrm>
              <a:off x="5176800" y="2157840"/>
              <a:ext cx="26640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9"/>
            <a:stretch/>
          </p:blipFill>
          <p:spPr>
            <a:xfrm>
              <a:off x="4846320" y="2133360"/>
              <a:ext cx="164880" cy="3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10"/>
            <a:stretch/>
          </p:blipFill>
          <p:spPr>
            <a:xfrm>
              <a:off x="5650560" y="2358720"/>
              <a:ext cx="192240" cy="30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11"/>
            <a:stretch/>
          </p:blipFill>
          <p:spPr>
            <a:xfrm>
              <a:off x="5619240" y="1925640"/>
              <a:ext cx="153000" cy="27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12"/>
            <a:stretch/>
          </p:blipFill>
          <p:spPr>
            <a:xfrm>
              <a:off x="5694120" y="2448720"/>
              <a:ext cx="1454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13"/>
            <a:stretch/>
          </p:blipFill>
          <p:spPr>
            <a:xfrm>
              <a:off x="5704200" y="2001600"/>
              <a:ext cx="1454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14"/>
            <a:stretch/>
          </p:blipFill>
          <p:spPr>
            <a:xfrm>
              <a:off x="4768920" y="2254680"/>
              <a:ext cx="145440" cy="14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9" name="" descr=""/>
          <p:cNvPicPr/>
          <p:nvPr/>
        </p:nvPicPr>
        <p:blipFill>
          <a:blip r:embed="rId15"/>
          <a:stretch/>
        </p:blipFill>
        <p:spPr>
          <a:xfrm>
            <a:off x="5149800" y="4235400"/>
            <a:ext cx="657360" cy="6494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66640" y="2043000"/>
            <a:ext cx="243684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유럽지역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어드벤처 유행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97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년 이후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연평균 성장률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250%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보급 확산으로 성장세 지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용자층의 다양화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250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만명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년부터 어드벤처 강세 예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41520" y="2043000"/>
            <a:ext cx="243684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여성 사용자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여성사용자 증가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핵심 소비자 연령분포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2~20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인터페이스 단순하고 예쁜것 선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핵심 흥미유발 요소는 귀여운 캐릭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집중을 위해 발라드성 음악 선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51600" y="2043000"/>
            <a:ext cx="243684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에이도스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툼 레이스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소비자 인지도 높음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예상 출시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년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/4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분기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어드벤처 예상 마켓 쉐어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3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 개발자 탈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개발지연 예상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엔진 속도개선에 집중하고 있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4800" y="4237200"/>
            <a:ext cx="24368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귀엽고 산뜻한 게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유행어 첨가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인기 있는 리듬의 음악 삽입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속도보단 쉬운 인터페이스에 집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•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난이도를 기존의 게임보다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3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낮춘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설치과정을 최대한 즐겁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자동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67080" y="4237200"/>
            <a:ext cx="24368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전략적 협력 및 지원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협력 개발사와 공동 판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경쟁제품 보상판매 적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쉐어웨어 방식 판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해외 유망 제품과 판권 교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MLM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업체와 협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114960" y="4237200"/>
            <a:ext cx="24368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매스컴 집중 공략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화장품 회사와 공동 홍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관련 잡지에 신상품 정보 제공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게임 매니아 모니터 요원 선발 및 지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캐릭터의 배경 스토리 부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대형 브로마이드 제공 및 이벤트 행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104240" y="379440"/>
            <a:ext cx="944280" cy="263520"/>
          </a:xfrm>
          <a:custGeom>
            <a:avLst/>
            <a:gdLst>
              <a:gd name="textAreaLeft" fmla="*/ 0 w 944280"/>
              <a:gd name="textAreaRight" fmla="*/ 944640 w 9442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마케팅이란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08760" y="379440"/>
            <a:ext cx="928800" cy="263520"/>
          </a:xfrm>
          <a:custGeom>
            <a:avLst/>
            <a:gdLst>
              <a:gd name="textAreaLeft" fmla="*/ 0 w 928800"/>
              <a:gd name="textAreaRight" fmla="*/ 929160 w 9288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마케팅 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49440" y="419040"/>
            <a:ext cx="1336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5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돋움"/>
              </a:rPr>
              <a:t>프로젝트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제작 과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30400" y="4923000"/>
            <a:ext cx="7122960" cy="542880"/>
          </a:xfrm>
          <a:custGeom>
            <a:avLst/>
            <a:gdLst>
              <a:gd name="textAreaLeft" fmla="*/ 0 w 7122960"/>
              <a:gd name="textAreaRight" fmla="*/ 7123320 w 71229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24" y="0"/>
                </a:lnTo>
                <a:lnTo>
                  <a:pt x="21600" y="10800"/>
                </a:lnTo>
                <a:lnTo>
                  <a:pt x="204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47800" y="3635280"/>
            <a:ext cx="7122960" cy="541440"/>
          </a:xfrm>
          <a:custGeom>
            <a:avLst/>
            <a:gdLst>
              <a:gd name="textAreaLeft" fmla="*/ 360 w 7122960"/>
              <a:gd name="textAreaRight" fmla="*/ 7123680 w 712296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24" y="0"/>
                </a:lnTo>
                <a:lnTo>
                  <a:pt x="21600" y="10800"/>
                </a:lnTo>
                <a:lnTo>
                  <a:pt x="204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2211480"/>
            <a:ext cx="7119720" cy="541080"/>
          </a:xfrm>
          <a:custGeom>
            <a:avLst/>
            <a:gdLst>
              <a:gd name="textAreaLeft" fmla="*/ 0 w 7119720"/>
              <a:gd name="textAreaRight" fmla="*/ 7120080 w 711972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24" y="0"/>
                </a:lnTo>
                <a:lnTo>
                  <a:pt x="21600" y="10800"/>
                </a:lnTo>
                <a:lnTo>
                  <a:pt x="204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060560" y="1738440"/>
            <a:ext cx="917640" cy="6220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057560" y="1668600"/>
            <a:ext cx="590760" cy="7603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266840" y="2482920"/>
            <a:ext cx="4935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발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17760" y="248292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아이디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74960" y="248292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기획 회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89720" y="248292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시나리오 작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62560" y="3841920"/>
            <a:ext cx="493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프로토타이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13440" y="3838680"/>
            <a:ext cx="493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기획서 작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32520" y="2482920"/>
            <a:ext cx="495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자료 수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02000" y="3838680"/>
            <a:ext cx="496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프로그래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66840" y="383868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그래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3840" y="512604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사운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43440" y="5138640"/>
            <a:ext cx="497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밸런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63800" y="512604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테스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94600" y="512604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완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752560" y="3092400"/>
            <a:ext cx="592200" cy="71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7054920" y="3159000"/>
            <a:ext cx="735120" cy="6796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7194600" y="4516560"/>
            <a:ext cx="563400" cy="542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6702480" y="1738440"/>
            <a:ext cx="777960" cy="647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951360" y="385452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계획서 작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7"/>
          <a:stretch/>
        </p:blipFill>
        <p:spPr>
          <a:xfrm>
            <a:off x="4168800" y="3041640"/>
            <a:ext cx="593640" cy="7462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8"/>
          <a:stretch/>
        </p:blipFill>
        <p:spPr>
          <a:xfrm>
            <a:off x="5254560" y="1738440"/>
            <a:ext cx="652680" cy="674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9"/>
          <a:stretch/>
        </p:blipFill>
        <p:spPr>
          <a:xfrm>
            <a:off x="1220760" y="4788000"/>
            <a:ext cx="844560" cy="2826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10"/>
          <a:stretch/>
        </p:blipFill>
        <p:spPr>
          <a:xfrm>
            <a:off x="1643040" y="4381560"/>
            <a:ext cx="493560" cy="473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1"/>
          <a:stretch/>
        </p:blipFill>
        <p:spPr>
          <a:xfrm>
            <a:off x="5626080" y="4903920"/>
            <a:ext cx="866880" cy="204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2"/>
          <a:stretch/>
        </p:blipFill>
        <p:spPr>
          <a:xfrm>
            <a:off x="5803920" y="4392720"/>
            <a:ext cx="585720" cy="4824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3"/>
          <a:stretch/>
        </p:blipFill>
        <p:spPr>
          <a:xfrm>
            <a:off x="1343160" y="3092400"/>
            <a:ext cx="560160" cy="74628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2454120" y="1533600"/>
            <a:ext cx="822600" cy="877680"/>
            <a:chOff x="2454120" y="1533600"/>
            <a:chExt cx="822600" cy="877680"/>
          </a:xfrm>
        </p:grpSpPr>
        <p:pic>
          <p:nvPicPr>
            <p:cNvPr id="401" name="" descr=""/>
            <p:cNvPicPr/>
            <p:nvPr/>
          </p:nvPicPr>
          <p:blipFill>
            <a:blip r:embed="rId14"/>
            <a:stretch/>
          </p:blipFill>
          <p:spPr>
            <a:xfrm>
              <a:off x="2454120" y="1533600"/>
              <a:ext cx="82260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5"/>
            <a:stretch/>
          </p:blipFill>
          <p:spPr>
            <a:xfrm>
              <a:off x="2574360" y="1650960"/>
              <a:ext cx="60552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"/>
          <p:cNvSpPr/>
          <p:nvPr/>
        </p:nvSpPr>
        <p:spPr>
          <a:xfrm>
            <a:off x="8040600" y="2822400"/>
            <a:ext cx="282600" cy="812880"/>
          </a:xfrm>
          <a:custGeom>
            <a:avLst/>
            <a:gdLst>
              <a:gd name="textAreaLeft" fmla="*/ 37800 w 282600"/>
              <a:gd name="textAreaRight" fmla="*/ 244800 w 282600"/>
              <a:gd name="textAreaTop" fmla="*/ 142200 h 812880"/>
              <a:gd name="textAreaBottom" fmla="*/ 58932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07400" y="4176720"/>
            <a:ext cx="282600" cy="814320"/>
          </a:xfrm>
          <a:custGeom>
            <a:avLst/>
            <a:gdLst>
              <a:gd name="textAreaLeft" fmla="*/ 37800 w 282600"/>
              <a:gd name="textAreaRight" fmla="*/ 244800 w 282600"/>
              <a:gd name="textAreaTop" fmla="*/ 142560 h 814320"/>
              <a:gd name="textAreaBottom" fmla="*/ 59040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6"/>
          <a:stretch/>
        </p:blipFill>
        <p:spPr>
          <a:xfrm>
            <a:off x="2759040" y="4392720"/>
            <a:ext cx="878040" cy="674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4257720" y="5141880"/>
            <a:ext cx="495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디버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7"/>
          <a:stretch/>
        </p:blipFill>
        <p:spPr>
          <a:xfrm>
            <a:off x="4319640" y="4392720"/>
            <a:ext cx="628560" cy="691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8"/>
          <a:stretch/>
        </p:blipFill>
        <p:spPr>
          <a:xfrm>
            <a:off x="5613480" y="3035160"/>
            <a:ext cx="654120" cy="750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641920" y="379440"/>
            <a:ext cx="795240" cy="263520"/>
          </a:xfrm>
          <a:custGeom>
            <a:avLst/>
            <a:gdLst>
              <a:gd name="textAreaLeft" fmla="*/ 0 w 795240"/>
              <a:gd name="textAreaRight" fmla="*/ 795600 w 795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01" y="0"/>
                </a:lnTo>
                <a:lnTo>
                  <a:pt x="21600" y="10800"/>
                </a:lnTo>
                <a:lnTo>
                  <a:pt x="169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제작 과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51400" y="379440"/>
            <a:ext cx="1078200" cy="26352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10" y="0"/>
                </a:lnTo>
                <a:lnTo>
                  <a:pt x="21600" y="10800"/>
                </a:lnTo>
                <a:lnTo>
                  <a:pt x="17910" y="21600"/>
                </a:lnTo>
                <a:lnTo>
                  <a:pt x="0" y="21600"/>
                </a:lnTo>
                <a:lnTo>
                  <a:pt x="369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팀 구성 및 관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55000" y="379440"/>
            <a:ext cx="855360" cy="263520"/>
          </a:xfrm>
          <a:custGeom>
            <a:avLst/>
            <a:gdLst>
              <a:gd name="textAreaLeft" fmla="*/ 0 w 855360"/>
              <a:gd name="textAreaRight" fmla="*/ 855720 w 855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53" y="0"/>
                </a:lnTo>
                <a:lnTo>
                  <a:pt x="21600" y="10800"/>
                </a:lnTo>
                <a:lnTo>
                  <a:pt x="17753" y="21600"/>
                </a:lnTo>
                <a:lnTo>
                  <a:pt x="0" y="21600"/>
                </a:lnTo>
                <a:lnTo>
                  <a:pt x="384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작업 회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866000" y="379440"/>
            <a:ext cx="855720" cy="263520"/>
          </a:xfrm>
          <a:custGeom>
            <a:avLst/>
            <a:gdLst>
              <a:gd name="textAreaLeft" fmla="*/ 0 w 855720"/>
              <a:gd name="textAreaRight" fmla="*/ 856080 w 855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53" y="0"/>
                </a:lnTo>
                <a:lnTo>
                  <a:pt x="21600" y="10800"/>
                </a:lnTo>
                <a:lnTo>
                  <a:pt x="17753" y="21600"/>
                </a:lnTo>
                <a:lnTo>
                  <a:pt x="0" y="21600"/>
                </a:lnTo>
                <a:lnTo>
                  <a:pt x="384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진행 방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572000" y="3206880"/>
            <a:ext cx="3859200" cy="4921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담당 업무를 조직도에 명시하여 책임과 권한을 정확히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2446200"/>
            <a:ext cx="3859200" cy="4921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직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근무 방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개발 용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개념 통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기 평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1698480"/>
            <a:ext cx="3859200" cy="4921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중요도가 높은 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급한 일을 먼저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순위도 작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팀 구성 및 관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6120" y="1671480"/>
            <a:ext cx="3179520" cy="200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6040" y="1515960"/>
            <a:ext cx="1355760" cy="282600"/>
          </a:xfrm>
          <a:custGeom>
            <a:avLst/>
            <a:gdLst>
              <a:gd name="textAreaLeft" fmla="*/ 0 w 1355760"/>
              <a:gd name="textAreaRight" fmla="*/ 1355760 w 1355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팀의 진화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758960" y="1973160"/>
          <a:ext cx="209088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1973160"/>
                    <a:ext cx="20908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1425600" y="3130560"/>
            <a:ext cx="317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돋움"/>
              </a:rPr>
              <a:t>시작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6280" y="2836800"/>
            <a:ext cx="317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돋움"/>
              </a:rPr>
              <a:t>시행 착오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25520" y="2519280"/>
            <a:ext cx="317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돋움"/>
              </a:rPr>
              <a:t>안정권 진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40000" y="2214720"/>
            <a:ext cx="317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돋움"/>
              </a:rPr>
              <a:t>성숙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32320" y="3292560"/>
            <a:ext cx="317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돋움"/>
              </a:rPr>
              <a:t>시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462600" y="2527560"/>
            <a:ext cx="1191960" cy="209520"/>
          </a:xfrm>
          <a:custGeom>
            <a:avLst/>
            <a:gdLst>
              <a:gd name="textAreaLeft" fmla="*/ 186120 w 1191960"/>
              <a:gd name="textAreaRight" fmla="*/ 1043280 w 1191960"/>
              <a:gd name="textAreaTop" fmla="*/ 52200 h 209520"/>
              <a:gd name="textAreaBottom" fmla="*/ 157320 h 209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57160" y="3292560"/>
            <a:ext cx="317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돋움"/>
              </a:rPr>
              <a:t>성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19640" y="1569960"/>
            <a:ext cx="1022400" cy="24624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우선 순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319640" y="2325600"/>
            <a:ext cx="1022400" cy="24624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규약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규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19640" y="3076560"/>
            <a:ext cx="1022400" cy="24624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업무 분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2600" y="5032440"/>
            <a:ext cx="8015040" cy="55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1960" y="4471920"/>
            <a:ext cx="8015400" cy="55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57280" y="3936960"/>
            <a:ext cx="8015400" cy="55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3957480"/>
            <a:ext cx="74754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뛰어난 팀을 구성하려면 먼저 게임 개발 목표를 정하고 이에 알맞은 개발자를 부문별로 찾으며 최소의 인원으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팀을 구축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초기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명 이내가 적절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하고 부족한 부문에 대해서는 아웃소싱을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팀이 구성 되면 팀의 비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궁극적인 목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을 제시하고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개년간 운영 계획과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년 단위의 단계별 성취 목표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작성하여 팀 전체의 나아갈 방향을 제시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구성된 팀원간의 책임 권한을 명확히 하고 수시로 개발작업 이외에 동종 업체 견학과  세미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전시회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유통사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방문하여 현실직시가 가능하도록 자극을 정기적으로 준다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609480" y="3946680"/>
            <a:ext cx="495360" cy="4665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615960" y="4532400"/>
            <a:ext cx="436680" cy="4334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647640" y="5105520"/>
            <a:ext cx="389160" cy="3808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641920" y="379440"/>
            <a:ext cx="795240" cy="263520"/>
          </a:xfrm>
          <a:custGeom>
            <a:avLst/>
            <a:gdLst>
              <a:gd name="textAreaLeft" fmla="*/ 0 w 795240"/>
              <a:gd name="textAreaRight" fmla="*/ 795600 w 795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01" y="0"/>
                </a:lnTo>
                <a:lnTo>
                  <a:pt x="21600" y="10800"/>
                </a:lnTo>
                <a:lnTo>
                  <a:pt x="169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제작 과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51400" y="379440"/>
            <a:ext cx="1078200" cy="26352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10" y="0"/>
                </a:lnTo>
                <a:lnTo>
                  <a:pt x="21600" y="10800"/>
                </a:lnTo>
                <a:lnTo>
                  <a:pt x="17910" y="21600"/>
                </a:lnTo>
                <a:lnTo>
                  <a:pt x="0" y="21600"/>
                </a:lnTo>
                <a:lnTo>
                  <a:pt x="3690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팀 구성 및 관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55000" y="379440"/>
            <a:ext cx="855360" cy="263520"/>
          </a:xfrm>
          <a:custGeom>
            <a:avLst/>
            <a:gdLst>
              <a:gd name="textAreaLeft" fmla="*/ 0 w 855360"/>
              <a:gd name="textAreaRight" fmla="*/ 855720 w 855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53" y="0"/>
                </a:lnTo>
                <a:lnTo>
                  <a:pt x="21600" y="10800"/>
                </a:lnTo>
                <a:lnTo>
                  <a:pt x="17753" y="21600"/>
                </a:lnTo>
                <a:lnTo>
                  <a:pt x="0" y="21600"/>
                </a:lnTo>
                <a:lnTo>
                  <a:pt x="384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작업 회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866000" y="379440"/>
            <a:ext cx="855720" cy="263520"/>
          </a:xfrm>
          <a:custGeom>
            <a:avLst/>
            <a:gdLst>
              <a:gd name="textAreaLeft" fmla="*/ 0 w 855720"/>
              <a:gd name="textAreaRight" fmla="*/ 856080 w 855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53" y="0"/>
                </a:lnTo>
                <a:lnTo>
                  <a:pt x="21600" y="10800"/>
                </a:lnTo>
                <a:lnTo>
                  <a:pt x="17753" y="21600"/>
                </a:lnTo>
                <a:lnTo>
                  <a:pt x="0" y="21600"/>
                </a:lnTo>
                <a:lnTo>
                  <a:pt x="384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진행 방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3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작업 회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39680" y="2017800"/>
            <a:ext cx="2597400" cy="1373040"/>
          </a:xfrm>
          <a:custGeom>
            <a:avLst/>
            <a:gdLst>
              <a:gd name="textAreaLeft" fmla="*/ 0 w 2597400"/>
              <a:gd name="textAreaRight" fmla="*/ 2597760 w 2597400"/>
              <a:gd name="textAreaTop" fmla="*/ 0 h 1373040"/>
              <a:gd name="textAreaBottom" fmla="*/ 1373400 h 13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꼭 필요한 의제만을 선정한다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게시판이나 통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앙케이트를 활용한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문제를 미리 정리한 후 회의를 갖는다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조직의 책임과 권한을 명확히 한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68480" y="3619440"/>
            <a:ext cx="2597040" cy="1373400"/>
          </a:xfrm>
          <a:custGeom>
            <a:avLst/>
            <a:gdLst>
              <a:gd name="textAreaLeft" fmla="*/ 0 w 2597040"/>
              <a:gd name="textAreaRight" fmla="*/ 2597400 w 2597040"/>
              <a:gd name="textAreaTop" fmla="*/ 0 h 1373400"/>
              <a:gd name="textAreaBottom" fmla="*/ 1373760 h 13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목적이 뚜렷하지 않은 회의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책임전가를 위한 회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의견 경청 회의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의제에서 벗어난 회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438880" y="2017800"/>
            <a:ext cx="2597040" cy="1373040"/>
          </a:xfrm>
          <a:custGeom>
            <a:avLst/>
            <a:gdLst>
              <a:gd name="textAreaLeft" fmla="*/ 360 w 2597040"/>
              <a:gd name="textAreaRight" fmla="*/ 2597760 w 2597040"/>
              <a:gd name="textAreaTop" fmla="*/ 0 h 1373040"/>
              <a:gd name="textAreaBottom" fmla="*/ 1373400 h 13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제에 따라 진행자 선정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발표권 선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의제와 다른 얘기나 행동은 제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결론 유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회의 내용 기록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노트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녹음기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각자 노트 준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5467320" y="3619440"/>
            <a:ext cx="2597040" cy="1373400"/>
          </a:xfrm>
          <a:custGeom>
            <a:avLst/>
            <a:gdLst>
              <a:gd name="textAreaLeft" fmla="*/ 360 w 2597040"/>
              <a:gd name="textAreaRight" fmla="*/ 2597760 w 2597040"/>
              <a:gd name="textAreaTop" fmla="*/ 0 h 1373400"/>
              <a:gd name="textAreaBottom" fmla="*/ 1373760 h 13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BS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법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자유롭게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많은 아이디어 기록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연상기법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정 내용을 순차적으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연상 또는 발전 시킨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제한법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적정 범위를 정하여 일정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아이디어까지만 얻는다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역발상버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고정관념을 깨는 방향으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회의를 진행한다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88920" y="1817640"/>
            <a:ext cx="1424160" cy="360360"/>
          </a:xfrm>
          <a:custGeom>
            <a:avLst/>
            <a:gdLst>
              <a:gd name="textAreaLeft" fmla="*/ 0 w 1424160"/>
              <a:gd name="textAreaRight" fmla="*/ 1424520 w 14241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효율적인 회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93600" y="3441600"/>
            <a:ext cx="1424160" cy="360360"/>
          </a:xfrm>
          <a:custGeom>
            <a:avLst/>
            <a:gdLst>
              <a:gd name="textAreaLeft" fmla="*/ 0 w 1424160"/>
              <a:gd name="textAreaRight" fmla="*/ 1424520 w 14241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불필요한 회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674760" y="1833480"/>
            <a:ext cx="1423800" cy="360360"/>
          </a:xfrm>
          <a:custGeom>
            <a:avLst/>
            <a:gdLst>
              <a:gd name="textAreaLeft" fmla="*/ -360 w 1423800"/>
              <a:gd name="textAreaRight" fmla="*/ 1423800 w 1423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회의 진행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6680160" y="3444840"/>
            <a:ext cx="1424160" cy="360360"/>
          </a:xfrm>
          <a:custGeom>
            <a:avLst/>
            <a:gdLst>
              <a:gd name="textAreaLeft" fmla="*/ 360 w 1424160"/>
              <a:gd name="textAreaRight" fmla="*/ 1424880 w 14241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회의 방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22760" y="1841400"/>
            <a:ext cx="1719360" cy="595440"/>
          </a:xfrm>
          <a:prstGeom prst="hexagon">
            <a:avLst>
              <a:gd name="adj" fmla="val 72189"/>
              <a:gd name="vf" fmla="val 115470"/>
            </a:avLst>
          </a:prstGeom>
          <a:gradFill rotWithShape="0">
            <a:gsLst>
              <a:gs pos="0">
                <a:srgbClr val="00ac81"/>
              </a:gs>
              <a:gs pos="50000">
                <a:srgbClr val="00cc99"/>
              </a:gs>
              <a:gs pos="100000">
                <a:srgbClr val="00ac8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000000"/>
                </a:solidFill>
                <a:latin typeface="Times New Roman"/>
                <a:ea typeface="돋움"/>
              </a:rPr>
              <a:t>파레토 원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403440" y="4560840"/>
            <a:ext cx="2351160" cy="495360"/>
          </a:xfrm>
          <a:prstGeom prst="flowChartManualOperation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돋움"/>
              </a:rPr>
              <a:t>80 /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05240" y="2597040"/>
            <a:ext cx="555840" cy="1793880"/>
          </a:xfrm>
          <a:prstGeom prst="upArrow">
            <a:avLst>
              <a:gd name="adj1" fmla="val 50000"/>
              <a:gd name="adj2" fmla="val 8068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537000" y="2981160"/>
            <a:ext cx="2068560" cy="8859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2055960" y="5105520"/>
            <a:ext cx="5048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여러분이 발상한 아이디어의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의 만족감을 준다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나머지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는 쓸모가 없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중요한 제작의 과정의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는 전체 제작과정의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에 지나지 않는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직원의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가 게임 완성에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0%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기여한다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일반적으로 계획한 일의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는 실질적으로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정도의 실행 가능성을 갖는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41920" y="379440"/>
            <a:ext cx="795240" cy="263520"/>
          </a:xfrm>
          <a:custGeom>
            <a:avLst/>
            <a:gdLst>
              <a:gd name="textAreaLeft" fmla="*/ 0 w 795240"/>
              <a:gd name="textAreaRight" fmla="*/ 795600 w 795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01" y="0"/>
                </a:lnTo>
                <a:lnTo>
                  <a:pt x="21600" y="10800"/>
                </a:lnTo>
                <a:lnTo>
                  <a:pt x="169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제작 과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51400" y="379440"/>
            <a:ext cx="1078200" cy="26352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10" y="0"/>
                </a:lnTo>
                <a:lnTo>
                  <a:pt x="21600" y="10800"/>
                </a:lnTo>
                <a:lnTo>
                  <a:pt x="17910" y="21600"/>
                </a:lnTo>
                <a:lnTo>
                  <a:pt x="0" y="21600"/>
                </a:lnTo>
                <a:lnTo>
                  <a:pt x="369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팀 구성 및 관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55000" y="379440"/>
            <a:ext cx="855360" cy="263520"/>
          </a:xfrm>
          <a:custGeom>
            <a:avLst/>
            <a:gdLst>
              <a:gd name="textAreaLeft" fmla="*/ 0 w 855360"/>
              <a:gd name="textAreaRight" fmla="*/ 855720 w 855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53" y="0"/>
                </a:lnTo>
                <a:lnTo>
                  <a:pt x="21600" y="10800"/>
                </a:lnTo>
                <a:lnTo>
                  <a:pt x="17753" y="21600"/>
                </a:lnTo>
                <a:lnTo>
                  <a:pt x="0" y="21600"/>
                </a:lnTo>
                <a:lnTo>
                  <a:pt x="3847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작업 회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66000" y="379440"/>
            <a:ext cx="855720" cy="263520"/>
          </a:xfrm>
          <a:custGeom>
            <a:avLst/>
            <a:gdLst>
              <a:gd name="textAreaLeft" fmla="*/ 0 w 855720"/>
              <a:gd name="textAreaRight" fmla="*/ 856080 w 855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53" y="0"/>
                </a:lnTo>
                <a:lnTo>
                  <a:pt x="21600" y="10800"/>
                </a:lnTo>
                <a:lnTo>
                  <a:pt x="17753" y="21600"/>
                </a:lnTo>
                <a:lnTo>
                  <a:pt x="0" y="21600"/>
                </a:lnTo>
                <a:lnTo>
                  <a:pt x="384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진행 방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05040" y="1908000"/>
            <a:ext cx="1309680" cy="295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일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스스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찾아간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55840" y="1908000"/>
            <a:ext cx="1309680" cy="295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계획서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작성 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부터 팀원을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참여시킴으로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팀장의 의도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충분히 알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7000" y="1908000"/>
            <a:ext cx="1309680" cy="295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팀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스스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자기책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아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일하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908000"/>
            <a:ext cx="1309680" cy="295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팀원 스스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일한 결과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대해 평가하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팀장도 평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하고 같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피드백 한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08600" y="1908000"/>
            <a:ext cx="1310040" cy="295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그런 결과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나왔는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전체 제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프로세스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대한 평가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함께 한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4.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진행 방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4880" y="2068560"/>
            <a:ext cx="7837560" cy="355680"/>
          </a:xfrm>
          <a:custGeom>
            <a:avLst/>
            <a:gdLst>
              <a:gd name="textAreaLeft" fmla="*/ 0 w 7837560"/>
              <a:gd name="textAreaRight" fmla="*/ 7837920 w 78375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24" y="0"/>
                </a:lnTo>
                <a:lnTo>
                  <a:pt x="21600" y="10800"/>
                </a:lnTo>
                <a:lnTo>
                  <a:pt x="20424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36800" y="2035080"/>
            <a:ext cx="4935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63840" y="203508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94120" y="203508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54680" y="203508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24400" y="203508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41920" y="379440"/>
            <a:ext cx="795240" cy="263520"/>
          </a:xfrm>
          <a:custGeom>
            <a:avLst/>
            <a:gdLst>
              <a:gd name="textAreaLeft" fmla="*/ 0 w 795240"/>
              <a:gd name="textAreaRight" fmla="*/ 795600 w 795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01" y="0"/>
                </a:lnTo>
                <a:lnTo>
                  <a:pt x="21600" y="10800"/>
                </a:lnTo>
                <a:lnTo>
                  <a:pt x="169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제작 과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251400" y="379440"/>
            <a:ext cx="1078200" cy="26352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10" y="0"/>
                </a:lnTo>
                <a:lnTo>
                  <a:pt x="21600" y="10800"/>
                </a:lnTo>
                <a:lnTo>
                  <a:pt x="17910" y="21600"/>
                </a:lnTo>
                <a:lnTo>
                  <a:pt x="0" y="21600"/>
                </a:lnTo>
                <a:lnTo>
                  <a:pt x="369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팀 구성 및 관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155000" y="379440"/>
            <a:ext cx="855360" cy="263520"/>
          </a:xfrm>
          <a:custGeom>
            <a:avLst/>
            <a:gdLst>
              <a:gd name="textAreaLeft" fmla="*/ 0 w 855360"/>
              <a:gd name="textAreaRight" fmla="*/ 855720 w 855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53" y="0"/>
                </a:lnTo>
                <a:lnTo>
                  <a:pt x="21600" y="10800"/>
                </a:lnTo>
                <a:lnTo>
                  <a:pt x="17753" y="21600"/>
                </a:lnTo>
                <a:lnTo>
                  <a:pt x="0" y="21600"/>
                </a:lnTo>
                <a:lnTo>
                  <a:pt x="384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작업 회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66000" y="379440"/>
            <a:ext cx="855720" cy="263520"/>
          </a:xfrm>
          <a:custGeom>
            <a:avLst/>
            <a:gdLst>
              <a:gd name="textAreaLeft" fmla="*/ 0 w 855720"/>
              <a:gd name="textAreaRight" fmla="*/ 856080 w 855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53" y="0"/>
                </a:lnTo>
                <a:lnTo>
                  <a:pt x="21600" y="10800"/>
                </a:lnTo>
                <a:lnTo>
                  <a:pt x="17753" y="21600"/>
                </a:lnTo>
                <a:lnTo>
                  <a:pt x="0" y="21600"/>
                </a:lnTo>
                <a:lnTo>
                  <a:pt x="3847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진행 방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31400" y="5234040"/>
            <a:ext cx="3624120" cy="544320"/>
          </a:xfrm>
          <a:custGeom>
            <a:avLst/>
            <a:gdLst>
              <a:gd name="textAreaLeft" fmla="*/ 302400 w 3624120"/>
              <a:gd name="textAreaRight" fmla="*/ 3321720 w 3624120"/>
              <a:gd name="textAreaTop" fmla="*/ 110880 h 544320"/>
              <a:gd name="textAreaBottom" fmla="*/ 433440 h 544320"/>
            </a:gdLst>
            <a:ahLst/>
            <a:rect l="textAreaLeft" t="textAreaTop" r="textAreaRight" b="textAreaBottom"/>
            <a:pathLst>
              <a:path w="21600" h="21600">
                <a:moveTo>
                  <a:pt x="0" y="4408"/>
                </a:moveTo>
                <a:lnTo>
                  <a:pt x="18553" y="4408"/>
                </a:lnTo>
                <a:lnTo>
                  <a:pt x="18553" y="0"/>
                </a:lnTo>
                <a:lnTo>
                  <a:pt x="21600" y="10800"/>
                </a:lnTo>
                <a:lnTo>
                  <a:pt x="18553" y="21600"/>
                </a:lnTo>
                <a:lnTo>
                  <a:pt x="18553" y="17192"/>
                </a:lnTo>
                <a:lnTo>
                  <a:pt x="0" y="17192"/>
                </a:lnTo>
                <a:lnTo>
                  <a:pt x="1803" y="10800"/>
                </a:lnTo>
                <a:lnTo>
                  <a:pt x="0" y="440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돋움"/>
              </a:rPr>
              <a:t>이런 과정을 습관화 한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901960" y="1897200"/>
            <a:ext cx="657360" cy="747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1387440" y="1922400"/>
            <a:ext cx="787320" cy="7588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4351320" y="1947960"/>
            <a:ext cx="689040" cy="7444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5845320" y="1984320"/>
            <a:ext cx="647640" cy="6350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7234200" y="1947960"/>
            <a:ext cx="70344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549440" y="419040"/>
            <a:ext cx="1336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6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돋움"/>
              </a:rPr>
              <a:t>개발 기반 구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시스템 구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187280" y="5653080"/>
            <a:ext cx="1692360" cy="403200"/>
            <a:chOff x="1187280" y="5653080"/>
            <a:chExt cx="1692360" cy="403200"/>
          </a:xfrm>
        </p:grpSpPr>
        <p:sp>
          <p:nvSpPr>
            <p:cNvPr id="485" name=""/>
            <p:cNvSpPr/>
            <p:nvPr/>
          </p:nvSpPr>
          <p:spPr>
            <a:xfrm>
              <a:off x="1187280" y="5653080"/>
              <a:ext cx="1692360" cy="403200"/>
            </a:xfrm>
            <a:prstGeom prst="flowChartAlternateProcess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230480" y="5691600"/>
              <a:ext cx="1596960" cy="362160"/>
              <a:chOff x="1230480" y="5691600"/>
              <a:chExt cx="1596960" cy="362160"/>
            </a:xfrm>
          </p:grpSpPr>
          <p:pic>
            <p:nvPicPr>
              <p:cNvPr id="4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0480" y="5691600"/>
                <a:ext cx="316080" cy="32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37280" y="5691600"/>
                <a:ext cx="30384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99800" y="5691600"/>
                <a:ext cx="30780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6960" y="5772240"/>
                <a:ext cx="420480" cy="257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1" name=""/>
          <p:cNvSpPr/>
          <p:nvPr/>
        </p:nvSpPr>
        <p:spPr>
          <a:xfrm>
            <a:off x="1130400" y="5418000"/>
            <a:ext cx="441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19120" y="2058840"/>
            <a:ext cx="5570640" cy="328140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82840" y="4691160"/>
            <a:ext cx="1657440" cy="8874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3386160" y="4770360"/>
            <a:ext cx="622440" cy="5112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4214880" y="4770360"/>
            <a:ext cx="690480" cy="4921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203720" y="5316480"/>
            <a:ext cx="4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Pri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56000" y="5316480"/>
            <a:ext cx="466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CD-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1665360"/>
            <a:ext cx="966960" cy="8190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7"/>
          <a:stretch/>
        </p:blipFill>
        <p:spPr>
          <a:xfrm>
            <a:off x="3703680" y="1812960"/>
            <a:ext cx="690480" cy="5414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3098880" y="1654200"/>
            <a:ext cx="4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기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3749760" y="3046320"/>
            <a:ext cx="619200" cy="10764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2778120" y="3502080"/>
            <a:ext cx="4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78120" y="3365640"/>
            <a:ext cx="4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189080" y="4106880"/>
            <a:ext cx="1657440" cy="887400"/>
            <a:chOff x="1189080" y="4106880"/>
            <a:chExt cx="1657440" cy="887400"/>
          </a:xfrm>
        </p:grpSpPr>
        <p:sp>
          <p:nvSpPr>
            <p:cNvPr id="505" name=""/>
            <p:cNvSpPr/>
            <p:nvPr/>
          </p:nvSpPr>
          <p:spPr>
            <a:xfrm>
              <a:off x="1189080" y="4106880"/>
              <a:ext cx="1657440" cy="88740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31920" y="4231800"/>
              <a:ext cx="1519200" cy="449280"/>
            </a:xfrm>
            <a:prstGeom prst="lightningBol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39280" y="4641480"/>
              <a:ext cx="46728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SDN 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415120" y="2963880"/>
            <a:ext cx="384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그래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48480" y="3294000"/>
            <a:ext cx="1982520" cy="72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9"/>
          <a:stretch/>
        </p:blipFill>
        <p:spPr>
          <a:xfrm>
            <a:off x="7165800" y="3162240"/>
            <a:ext cx="451080" cy="3319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0"/>
          <a:stretch/>
        </p:blipFill>
        <p:spPr>
          <a:xfrm>
            <a:off x="6994440" y="3675240"/>
            <a:ext cx="531720" cy="5014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1"/>
          <a:stretch/>
        </p:blipFill>
        <p:spPr>
          <a:xfrm>
            <a:off x="5748480" y="3173400"/>
            <a:ext cx="717480" cy="9669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540480" y="3535200"/>
            <a:ext cx="509760" cy="241560"/>
          </a:xfrm>
          <a:prstGeom prst="leftRightArrow">
            <a:avLst>
              <a:gd name="adj1" fmla="val 50000"/>
              <a:gd name="adj2" fmla="val 4201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61440" y="3218040"/>
            <a:ext cx="38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Digital</a:t>
            </a:r>
            <a:br>
              <a:rPr sz="1400"/>
            </a:b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Cam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61440" y="3916440"/>
            <a:ext cx="384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ca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2600" y="4579920"/>
            <a:ext cx="1981080" cy="72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2"/>
          <a:stretch/>
        </p:blipFill>
        <p:spPr>
          <a:xfrm>
            <a:off x="7164360" y="5002200"/>
            <a:ext cx="452520" cy="353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3"/>
          <a:stretch/>
        </p:blipFill>
        <p:spPr>
          <a:xfrm>
            <a:off x="7051680" y="4552920"/>
            <a:ext cx="622440" cy="2318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4"/>
          <a:stretch/>
        </p:blipFill>
        <p:spPr>
          <a:xfrm>
            <a:off x="5805360" y="4641840"/>
            <a:ext cx="679680" cy="506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540480" y="4822920"/>
            <a:ext cx="511200" cy="241200"/>
          </a:xfrm>
          <a:prstGeom prst="leftRightArrow">
            <a:avLst>
              <a:gd name="adj1" fmla="val 50000"/>
              <a:gd name="adj2" fmla="val 4219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08640" y="4400640"/>
            <a:ext cx="38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사운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16880" y="4459320"/>
            <a:ext cx="384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ynthers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16880" y="5122800"/>
            <a:ext cx="384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D.A.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48480" y="2044800"/>
            <a:ext cx="1984320" cy="72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5"/>
          <a:stretch/>
        </p:blipFill>
        <p:spPr>
          <a:xfrm>
            <a:off x="5862600" y="2106720"/>
            <a:ext cx="652680" cy="6271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6541920" y="2286000"/>
            <a:ext cx="509760" cy="243000"/>
          </a:xfrm>
          <a:prstGeom prst="leftRightArrow">
            <a:avLst>
              <a:gd name="adj1" fmla="val 50000"/>
              <a:gd name="adj2" fmla="val 4176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08640" y="1865160"/>
            <a:ext cx="384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프로그래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6"/>
          <a:stretch/>
        </p:blipFill>
        <p:spPr>
          <a:xfrm>
            <a:off x="7165800" y="2165400"/>
            <a:ext cx="506520" cy="5587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7561440" y="2589120"/>
            <a:ext cx="384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-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9628400">
            <a:off x="4530240" y="2698560"/>
            <a:ext cx="949320" cy="315720"/>
          </a:xfrm>
          <a:prstGeom prst="leftRightArrow">
            <a:avLst>
              <a:gd name="adj1" fmla="val 50000"/>
              <a:gd name="adj2" fmla="val 5985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 rot="1971600">
            <a:off x="4543560" y="3920040"/>
            <a:ext cx="949320" cy="314640"/>
          </a:xfrm>
          <a:prstGeom prst="leftRightArrow">
            <a:avLst>
              <a:gd name="adj1" fmla="val 50000"/>
              <a:gd name="adj2" fmla="val 6006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6680" y="3330720"/>
            <a:ext cx="993960" cy="303120"/>
          </a:xfrm>
          <a:prstGeom prst="leftRightArrow">
            <a:avLst>
              <a:gd name="adj1" fmla="val 50000"/>
              <a:gd name="adj2" fmla="val 65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3812040" y="2497320"/>
            <a:ext cx="544680" cy="308160"/>
          </a:xfrm>
          <a:prstGeom prst="leftRightArrow">
            <a:avLst>
              <a:gd name="adj1" fmla="val 50000"/>
              <a:gd name="adj2" fmla="val 3518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16200000">
            <a:off x="3813840" y="4315320"/>
            <a:ext cx="544680" cy="307800"/>
          </a:xfrm>
          <a:prstGeom prst="leftRightArrow">
            <a:avLst>
              <a:gd name="adj1" fmla="val 50000"/>
              <a:gd name="adj2" fmla="val 352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22200" y="2114640"/>
            <a:ext cx="1646280" cy="88740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887400"/>
              <a:gd name="textAreaBottom" fmla="*/ 887760 h 88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돋움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9628400">
            <a:off x="2941560" y="4130280"/>
            <a:ext cx="654120" cy="314280"/>
          </a:xfrm>
          <a:prstGeom prst="leftRightArrow">
            <a:avLst>
              <a:gd name="adj1" fmla="val 50000"/>
              <a:gd name="adj2" fmla="val 4143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08600" y="379440"/>
            <a:ext cx="920880" cy="263520"/>
          </a:xfrm>
          <a:custGeom>
            <a:avLst/>
            <a:gdLst>
              <a:gd name="textAreaLeft" fmla="*/ 0 w 920880"/>
              <a:gd name="textAreaRight" fmla="*/ 921240 w 920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시스템 구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00880" y="379440"/>
            <a:ext cx="1362240" cy="2635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3" y="0"/>
                </a:lnTo>
                <a:lnTo>
                  <a:pt x="21600" y="10800"/>
                </a:lnTo>
                <a:lnTo>
                  <a:pt x="17773" y="21600"/>
                </a:lnTo>
                <a:lnTo>
                  <a:pt x="0" y="21600"/>
                </a:lnTo>
                <a:lnTo>
                  <a:pt x="382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데이터 베이스 구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데이터 베이스 구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23960" y="2235240"/>
            <a:ext cx="1778040" cy="302400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308240" y="2552760"/>
            <a:ext cx="684000" cy="12016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365120" y="4246560"/>
            <a:ext cx="516240" cy="334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자료 공유 및 백업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개발시간 단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04840" y="3889440"/>
            <a:ext cx="515880" cy="27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66960" y="2006640"/>
            <a:ext cx="1523880" cy="533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기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00480" y="2997360"/>
            <a:ext cx="1523880" cy="533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프로그래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00480" y="3987720"/>
            <a:ext cx="1523880" cy="533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그래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66960" y="4902120"/>
            <a:ext cx="1523880" cy="533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사운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542760" y="1828800"/>
            <a:ext cx="4383000" cy="914400"/>
          </a:xfrm>
          <a:custGeom>
            <a:avLst/>
            <a:gdLst>
              <a:gd name="textAreaLeft" fmla="*/ -360 w 4383000"/>
              <a:gd name="textAreaRight" fmla="*/ 4383000 w 43830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13" y="0"/>
                </a:lnTo>
                <a:lnTo>
                  <a:pt x="21600" y="10800"/>
                </a:lnTo>
                <a:lnTo>
                  <a:pt x="142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장 동향 자료 정리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예측자료로 활용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나리오 요약 정리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고 자료로 활용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팀별 계획 자료 요약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매뉴얼 제작 활용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000680" y="2806560"/>
            <a:ext cx="4519440" cy="914400"/>
          </a:xfrm>
          <a:custGeom>
            <a:avLst/>
            <a:gdLst>
              <a:gd name="textAreaLeft" fmla="*/ 360 w 4519440"/>
              <a:gd name="textAreaRight" fmla="*/ 4520160 w 4519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13" y="0"/>
                </a:lnTo>
                <a:lnTo>
                  <a:pt x="21600" y="10800"/>
                </a:lnTo>
                <a:lnTo>
                  <a:pt x="142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주석 모음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문제점 요약 및 작업 방향 관리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. RR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엔진 버전 관리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인엔진 수시 백업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최신 라이브러리 정리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업그레이드 시간절약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999960" y="3784680"/>
            <a:ext cx="4470120" cy="914400"/>
          </a:xfrm>
          <a:custGeom>
            <a:avLst/>
            <a:gdLst>
              <a:gd name="textAreaLeft" fmla="*/ -360 w 4470120"/>
              <a:gd name="textAreaRight" fmla="*/ 4470120 w 4470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13" y="0"/>
                </a:lnTo>
                <a:lnTo>
                  <a:pt x="21600" y="10800"/>
                </a:lnTo>
                <a:lnTo>
                  <a:pt x="142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2D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자료 정리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소스 재활용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. 3D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자료 정리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주요 기본 모델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동작 등 백업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팀별 계획 자료 요약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매뉴얼 제작 활용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570120" y="4765680"/>
            <a:ext cx="4470480" cy="914400"/>
          </a:xfrm>
          <a:custGeom>
            <a:avLst/>
            <a:gdLst>
              <a:gd name="textAreaLeft" fmla="*/ 360 w 4470480"/>
              <a:gd name="textAreaRight" fmla="*/ 4471200 w 4470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13" y="0"/>
                </a:lnTo>
                <a:lnTo>
                  <a:pt x="21600" y="10800"/>
                </a:lnTo>
                <a:lnTo>
                  <a:pt x="142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효과음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구축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소스 재활용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악기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구축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다양한 악기 준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        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사운드 편집툴 자료 정리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사용법 정리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08600" y="379440"/>
            <a:ext cx="920880" cy="263520"/>
          </a:xfrm>
          <a:custGeom>
            <a:avLst/>
            <a:gdLst>
              <a:gd name="textAreaLeft" fmla="*/ 0 w 920880"/>
              <a:gd name="textAreaRight" fmla="*/ 921240 w 920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시스템 구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00880" y="379440"/>
            <a:ext cx="1362240" cy="2635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3" y="0"/>
                </a:lnTo>
                <a:lnTo>
                  <a:pt x="21600" y="10800"/>
                </a:lnTo>
                <a:lnTo>
                  <a:pt x="17773" y="21600"/>
                </a:lnTo>
                <a:lnTo>
                  <a:pt x="0" y="21600"/>
                </a:lnTo>
                <a:lnTo>
                  <a:pt x="3827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데이터 베이스 구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549440" y="419040"/>
            <a:ext cx="1336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7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돋움"/>
              </a:rPr>
              <a:t>문제점 과 보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작업 지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02680" y="379440"/>
            <a:ext cx="696600" cy="263520"/>
          </a:xfrm>
          <a:custGeom>
            <a:avLst/>
            <a:gdLst>
              <a:gd name="textAreaLeft" fmla="*/ 0 w 696600"/>
              <a:gd name="textAreaRight" fmla="*/ 696960 w 69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작업 지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932600" y="379440"/>
            <a:ext cx="830520" cy="263520"/>
          </a:xfrm>
          <a:custGeom>
            <a:avLst/>
            <a:gdLst>
              <a:gd name="textAreaLeft" fmla="*/ 0 w 830520"/>
              <a:gd name="textAreaRight" fmla="*/ 830880 w 8305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0" y="0"/>
                </a:lnTo>
                <a:lnTo>
                  <a:pt x="21600" y="10800"/>
                </a:lnTo>
                <a:lnTo>
                  <a:pt x="17800" y="21600"/>
                </a:lnTo>
                <a:lnTo>
                  <a:pt x="0" y="21600"/>
                </a:lnTo>
                <a:lnTo>
                  <a:pt x="38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해결 방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7832880" y="104760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2674800" y="2216160"/>
            <a:ext cx="3167280" cy="3182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008600" y="3306600"/>
            <a:ext cx="1137960" cy="47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지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79720" y="2023920"/>
            <a:ext cx="1311120" cy="47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적합하지 않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팀원 선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73680" y="2023920"/>
            <a:ext cx="1311480" cy="47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불분명한 진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0600" y="3306600"/>
            <a:ext cx="1311120" cy="47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불분명한 목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86280" y="4716360"/>
            <a:ext cx="1311480" cy="47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무리한 일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79720" y="4608360"/>
            <a:ext cx="1311120" cy="47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소속감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책임감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부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12800" y="3306600"/>
            <a:ext cx="1311480" cy="47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변화에 대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불감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29040" y="1546200"/>
            <a:ext cx="1311120" cy="47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과중한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27600" y="5168880"/>
            <a:ext cx="1311120" cy="47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몰아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하는 습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3034800" y="2246400"/>
            <a:ext cx="3073320" cy="2654280"/>
            <a:chOff x="3034800" y="2246400"/>
            <a:chExt cx="3073320" cy="2654280"/>
          </a:xfrm>
        </p:grpSpPr>
        <p:sp>
          <p:nvSpPr>
            <p:cNvPr id="570" name=""/>
            <p:cNvSpPr/>
            <p:nvPr/>
          </p:nvSpPr>
          <p:spPr>
            <a:xfrm>
              <a:off x="4379760" y="4024440"/>
              <a:ext cx="395280" cy="876240"/>
            </a:xfrm>
            <a:prstGeom prst="upArrow">
              <a:avLst>
                <a:gd name="adj1" fmla="val 50000"/>
                <a:gd name="adj2" fmla="val 55419"/>
              </a:avLst>
            </a:prstGeom>
            <a:solidFill>
              <a:srgbClr val="777777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4383000" y="2246400"/>
              <a:ext cx="395280" cy="876240"/>
            </a:xfrm>
            <a:prstGeom prst="upArrow">
              <a:avLst>
                <a:gd name="adj1" fmla="val 50000"/>
                <a:gd name="adj2" fmla="val 55419"/>
              </a:avLst>
            </a:prstGeom>
            <a:solidFill>
              <a:srgbClr val="777777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rot="16200000">
              <a:off x="5471640" y="3108960"/>
              <a:ext cx="395280" cy="876600"/>
            </a:xfrm>
            <a:prstGeom prst="upArrow">
              <a:avLst>
                <a:gd name="adj1" fmla="val 50000"/>
                <a:gd name="adj2" fmla="val 55442"/>
              </a:avLst>
            </a:prstGeom>
            <a:solidFill>
              <a:srgbClr val="777777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 rot="16200000">
              <a:off x="3274920" y="3108960"/>
              <a:ext cx="395280" cy="876600"/>
            </a:xfrm>
            <a:prstGeom prst="upArrow">
              <a:avLst>
                <a:gd name="adj1" fmla="val 50000"/>
                <a:gd name="adj2" fmla="val 55442"/>
              </a:avLst>
            </a:prstGeom>
            <a:solidFill>
              <a:srgbClr val="777777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rot="19154400">
              <a:off x="5214240" y="3852720"/>
              <a:ext cx="395280" cy="876600"/>
            </a:xfrm>
            <a:prstGeom prst="upArrow">
              <a:avLst>
                <a:gd name="adj1" fmla="val 50000"/>
                <a:gd name="adj2" fmla="val 55442"/>
              </a:avLst>
            </a:prstGeom>
            <a:solidFill>
              <a:srgbClr val="777777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 rot="19153800">
              <a:off x="3652200" y="2379600"/>
              <a:ext cx="395280" cy="875880"/>
            </a:xfrm>
            <a:prstGeom prst="upArrow">
              <a:avLst>
                <a:gd name="adj1" fmla="val 50000"/>
                <a:gd name="adj2" fmla="val 55396"/>
              </a:avLst>
            </a:prstGeom>
            <a:solidFill>
              <a:srgbClr val="777777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445600">
              <a:off x="3614400" y="3852720"/>
              <a:ext cx="395280" cy="876600"/>
            </a:xfrm>
            <a:prstGeom prst="upArrow">
              <a:avLst>
                <a:gd name="adj1" fmla="val 50000"/>
                <a:gd name="adj2" fmla="val 55442"/>
              </a:avLst>
            </a:prstGeom>
            <a:solidFill>
              <a:srgbClr val="777777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 rot="2446200">
              <a:off x="5176080" y="2379600"/>
              <a:ext cx="395280" cy="875880"/>
            </a:xfrm>
            <a:prstGeom prst="upArrow">
              <a:avLst>
                <a:gd name="adj1" fmla="val 50000"/>
                <a:gd name="adj2" fmla="val 55396"/>
              </a:avLst>
            </a:prstGeom>
            <a:solidFill>
              <a:srgbClr val="777777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80960" y="115416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해결 방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7840800" y="1033560"/>
            <a:ext cx="839520" cy="9810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3100320" y="2147760"/>
            <a:ext cx="2962440" cy="29354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044960" y="3327480"/>
            <a:ext cx="1063440" cy="60624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해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84200" y="1897200"/>
            <a:ext cx="1881360" cy="76824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외주를 주거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팀원을 교체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0760" y="4400640"/>
            <a:ext cx="1882800" cy="76824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일정을 가능한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초기 일정에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30%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더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새로이 만든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14320" y="3193920"/>
            <a:ext cx="1882800" cy="7686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경쟁사 견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또는 영업 현장에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일일 근무 시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84200" y="4400640"/>
            <a:ext cx="1881360" cy="76824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득과 실을 생각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보거나 이익에 대한 분배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명확히 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16640" y="3193920"/>
            <a:ext cx="1882800" cy="7686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목표를 실행 가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하도록 하향 조정하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QM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활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00760" y="1897200"/>
            <a:ext cx="1882800" cy="76824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담당 영역을 명확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하고 대형 제작일정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잘보이는 곳에 설치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32040" y="5154480"/>
            <a:ext cx="1882800" cy="7686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작업량을 작게 하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대신 철저히 일정 관리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하는 습관 교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39960" y="1371600"/>
            <a:ext cx="1882800" cy="76824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과중한 작업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몇 단계로 나눠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작업해 나간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79760" y="4148280"/>
            <a:ext cx="395280" cy="752400"/>
          </a:xfrm>
          <a:prstGeom prst="upArrow">
            <a:avLst>
              <a:gd name="adj1" fmla="val 50000"/>
              <a:gd name="adj2" fmla="val 47587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383000" y="2328840"/>
            <a:ext cx="395280" cy="752400"/>
          </a:xfrm>
          <a:prstGeom prst="upArrow">
            <a:avLst>
              <a:gd name="adj1" fmla="val 50000"/>
              <a:gd name="adj2" fmla="val 47587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rot="16200000">
            <a:off x="5499360" y="3136680"/>
            <a:ext cx="339840" cy="876600"/>
          </a:xfrm>
          <a:prstGeom prst="upArrow">
            <a:avLst>
              <a:gd name="adj1" fmla="val 50000"/>
              <a:gd name="adj2" fmla="val 6448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 rot="16200000">
            <a:off x="3302640" y="3136680"/>
            <a:ext cx="339840" cy="876600"/>
          </a:xfrm>
          <a:prstGeom prst="upArrow">
            <a:avLst>
              <a:gd name="adj1" fmla="val 50000"/>
              <a:gd name="adj2" fmla="val 6448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 rot="19154400">
            <a:off x="5242320" y="3930120"/>
            <a:ext cx="395280" cy="785880"/>
          </a:xfrm>
          <a:prstGeom prst="upArrow">
            <a:avLst>
              <a:gd name="adj1" fmla="val 50000"/>
              <a:gd name="adj2" fmla="val 49704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 rot="19153800">
            <a:off x="3681360" y="2457360"/>
            <a:ext cx="395280" cy="785520"/>
          </a:xfrm>
          <a:prstGeom prst="upArrow">
            <a:avLst>
              <a:gd name="adj1" fmla="val 50000"/>
              <a:gd name="adj2" fmla="val 49681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2445600">
            <a:off x="3581280" y="3936600"/>
            <a:ext cx="395280" cy="779400"/>
          </a:xfrm>
          <a:prstGeom prst="upArrow">
            <a:avLst>
              <a:gd name="adj1" fmla="val 50000"/>
              <a:gd name="adj2" fmla="val 49294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 rot="2446200">
            <a:off x="5143680" y="2463120"/>
            <a:ext cx="395280" cy="779400"/>
          </a:xfrm>
          <a:prstGeom prst="upArrow">
            <a:avLst>
              <a:gd name="adj1" fmla="val 50000"/>
              <a:gd name="adj2" fmla="val 49294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02680" y="379440"/>
            <a:ext cx="696600" cy="263520"/>
          </a:xfrm>
          <a:custGeom>
            <a:avLst/>
            <a:gdLst>
              <a:gd name="textAreaLeft" fmla="*/ 0 w 696600"/>
              <a:gd name="textAreaRight" fmla="*/ 696960 w 69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작업 지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932600" y="379440"/>
            <a:ext cx="830520" cy="263520"/>
          </a:xfrm>
          <a:custGeom>
            <a:avLst/>
            <a:gdLst>
              <a:gd name="textAreaLeft" fmla="*/ 0 w 830520"/>
              <a:gd name="textAreaRight" fmla="*/ 830880 w 8305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0" y="0"/>
                </a:lnTo>
                <a:lnTo>
                  <a:pt x="21600" y="10800"/>
                </a:lnTo>
                <a:lnTo>
                  <a:pt x="17800" y="21600"/>
                </a:lnTo>
                <a:lnTo>
                  <a:pt x="0" y="21600"/>
                </a:lnTo>
                <a:lnTo>
                  <a:pt x="380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해결 방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05520" y="2324160"/>
            <a:ext cx="3149640" cy="3365280"/>
          </a:xfrm>
          <a:custGeom>
            <a:avLst/>
            <a:gdLst>
              <a:gd name="textAreaLeft" fmla="*/ 153720 w 3149640"/>
              <a:gd name="textAreaRight" fmla="*/ 2995920 w 3149640"/>
              <a:gd name="textAreaTop" fmla="*/ 153720 h 3365280"/>
              <a:gd name="textAreaBottom" fmla="*/ 3211560 h 3365280"/>
            </a:gdLst>
            <a:ahLst/>
            <a:rect l="textAreaLeft" t="textAreaTop" r="textAreaRight" b="textAreaBottom"/>
            <a:pathLst>
              <a:path w="21600" h="23079">
                <a:moveTo>
                  <a:pt x="3600" y="0"/>
                </a:moveTo>
                <a:arcTo wR="3600" hR="3600" stAng="16200000" swAng="-5400000"/>
                <a:lnTo>
                  <a:pt x="0" y="19479"/>
                </a:lnTo>
                <a:arcTo wR="3600" hR="3600" stAng="10800000" swAng="-5400000"/>
                <a:lnTo>
                  <a:pt x="18000" y="23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2324160"/>
            <a:ext cx="3149640" cy="3365280"/>
          </a:xfrm>
          <a:custGeom>
            <a:avLst/>
            <a:gdLst>
              <a:gd name="textAreaLeft" fmla="*/ 153720 w 3149640"/>
              <a:gd name="textAreaRight" fmla="*/ 2995920 w 3149640"/>
              <a:gd name="textAreaTop" fmla="*/ 153720 h 3365280"/>
              <a:gd name="textAreaBottom" fmla="*/ 3211560 h 3365280"/>
            </a:gdLst>
            <a:ahLst/>
            <a:rect l="textAreaLeft" t="textAreaTop" r="textAreaRight" b="textAreaBottom"/>
            <a:pathLst>
              <a:path w="21600" h="23079">
                <a:moveTo>
                  <a:pt x="3600" y="0"/>
                </a:moveTo>
                <a:arcTo wR="3600" hR="3600" stAng="16200000" swAng="-5400000"/>
                <a:lnTo>
                  <a:pt x="0" y="19479"/>
                </a:lnTo>
                <a:arcTo wR="3600" hR="3600" stAng="10800000" swAng="-5400000"/>
                <a:lnTo>
                  <a:pt x="18000" y="23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9440" y="419040"/>
            <a:ext cx="1336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돋움"/>
              </a:rPr>
              <a:t>좋은 게임 만들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좋은 게임이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486080"/>
            <a:ext cx="7467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우리가 말하는 좋은 게임의 조건은 어떤 것인지에 대해 생각해 봐야 한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사람에 따라 취향이나 가치관이 틀리기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때문에 평가의 기준이 틀릴 것이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다음은 간단한 비교 例이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17720" y="2608200"/>
            <a:ext cx="1039680" cy="113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54080" y="3754440"/>
            <a:ext cx="954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아이디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0160" y="5062680"/>
            <a:ext cx="674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정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44800" y="5062680"/>
            <a:ext cx="674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기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795760" y="4041720"/>
            <a:ext cx="896760" cy="947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143840" y="4368960"/>
            <a:ext cx="971640" cy="593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273720" y="2665440"/>
            <a:ext cx="836640" cy="447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299280" y="3122640"/>
            <a:ext cx="838080" cy="63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400720" y="4219560"/>
            <a:ext cx="1036440" cy="728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513480" y="3797280"/>
            <a:ext cx="534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재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6480" y="5079960"/>
            <a:ext cx="750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완성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64520" y="5105520"/>
            <a:ext cx="522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가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1305000" y="3952800"/>
            <a:ext cx="654120" cy="992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87320" y="2209680"/>
            <a:ext cx="1308240" cy="29232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개발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15080" y="2209680"/>
            <a:ext cx="1307880" cy="29232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소비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05560" y="366840"/>
            <a:ext cx="1081080" cy="26352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좋은 게임이란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3760" y="366840"/>
            <a:ext cx="1449360" cy="26496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64" y="0"/>
                </a:lnTo>
                <a:lnTo>
                  <a:pt x="21600" y="10800"/>
                </a:lnTo>
                <a:lnTo>
                  <a:pt x="17764" y="21600"/>
                </a:lnTo>
                <a:lnTo>
                  <a:pt x="0" y="21600"/>
                </a:lnTo>
                <a:lnTo>
                  <a:pt x="3836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좋은 게임 만드는 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4875120" y="1735200"/>
            <a:ext cx="3524400" cy="12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49440" y="419040"/>
            <a:ext cx="1336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8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돋움"/>
              </a:rPr>
              <a:t>참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389560" y="3403440"/>
            <a:ext cx="1909440" cy="2626560"/>
            <a:chOff x="5389560" y="3403440"/>
            <a:chExt cx="1909440" cy="2626560"/>
          </a:xfrm>
        </p:grpSpPr>
        <p:grpSp>
          <p:nvGrpSpPr>
            <p:cNvPr id="603" name=""/>
            <p:cNvGrpSpPr/>
            <p:nvPr/>
          </p:nvGrpSpPr>
          <p:grpSpPr>
            <a:xfrm>
              <a:off x="5389560" y="3403440"/>
              <a:ext cx="1909440" cy="2626560"/>
              <a:chOff x="5389560" y="3403440"/>
              <a:chExt cx="1909440" cy="2626560"/>
            </a:xfrm>
          </p:grpSpPr>
          <p:sp>
            <p:nvSpPr>
              <p:cNvPr id="604" name=""/>
              <p:cNvSpPr/>
              <p:nvPr/>
            </p:nvSpPr>
            <p:spPr>
              <a:xfrm>
                <a:off x="5389560" y="3403440"/>
                <a:ext cx="1906560" cy="1313280"/>
              </a:xfrm>
              <a:prstGeom prst="flowChartExtract">
                <a:avLst/>
              </a:pr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392440" y="4716000"/>
                <a:ext cx="1906560" cy="1313640"/>
              </a:xfrm>
              <a:prstGeom prst="flowChartExtract">
                <a:avLst/>
              </a:pr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5722920" y="3863880"/>
              <a:ext cx="1247400" cy="1696680"/>
              <a:chOff x="5722920" y="3863880"/>
              <a:chExt cx="1247400" cy="1696680"/>
            </a:xfrm>
          </p:grpSpPr>
          <p:sp>
            <p:nvSpPr>
              <p:cNvPr id="607" name=""/>
              <p:cNvSpPr/>
              <p:nvPr/>
            </p:nvSpPr>
            <p:spPr>
              <a:xfrm>
                <a:off x="5722920" y="3863880"/>
                <a:ext cx="1245600" cy="848520"/>
              </a:xfrm>
              <a:prstGeom prst="flowChartExtra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724720" y="4711680"/>
                <a:ext cx="1245600" cy="848520"/>
              </a:xfrm>
              <a:prstGeom prst="flowChartExtra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6078240" y="4303800"/>
              <a:ext cx="546120" cy="788760"/>
            </a:xfrm>
            <a:prstGeom prst="flowChartDecision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현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82280" y="40352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전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82280" y="35956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비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82280" y="50925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전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82280" y="55576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실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382760" y="3594240"/>
            <a:ext cx="2139840" cy="21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44760" y="4754520"/>
            <a:ext cx="178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449440" y="3876480"/>
            <a:ext cx="0" cy="1693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3668760"/>
            <a:ext cx="12826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8720" y="1781280"/>
            <a:ext cx="754200" cy="242640"/>
          </a:xfrm>
          <a:custGeom>
            <a:avLst/>
            <a:gdLst>
              <a:gd name="textAreaLeft" fmla="*/ 0 w 754200"/>
              <a:gd name="textAreaRight" fmla="*/ 754560 w 7542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1" y="0"/>
                </a:lnTo>
                <a:lnTo>
                  <a:pt x="21600" y="10800"/>
                </a:lnTo>
                <a:lnTo>
                  <a:pt x="185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획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51240" y="3814920"/>
            <a:ext cx="4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강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35480" y="54054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약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2640" y="47815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기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74920" y="47926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위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61960" y="5797440"/>
            <a:ext cx="214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SWOT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- Strenth, Weaknes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Opportunity, Thre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33440" y="1854360"/>
            <a:ext cx="2781360" cy="106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14520" y="1173240"/>
            <a:ext cx="2116080" cy="322200"/>
          </a:xfrm>
          <a:prstGeom prst="hexagon">
            <a:avLst>
              <a:gd name="adj" fmla="val 56159"/>
              <a:gd name="vf" fmla="val 11547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직급별 요구 능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839960" y="1852560"/>
            <a:ext cx="89064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95800" y="1852560"/>
            <a:ext cx="37116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74920" y="2157480"/>
            <a:ext cx="70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인간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능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92360" y="2157480"/>
            <a:ext cx="70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기술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능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11440" y="2157480"/>
            <a:ext cx="70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매니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능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08120" y="3467160"/>
            <a:ext cx="1695600" cy="272880"/>
          </a:xfrm>
          <a:prstGeom prst="hexagon">
            <a:avLst>
              <a:gd name="adj" fmla="val 53133"/>
              <a:gd name="vf" fmla="val 11547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WO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분석 기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8720" y="2736720"/>
            <a:ext cx="754200" cy="243000"/>
          </a:xfrm>
          <a:custGeom>
            <a:avLst/>
            <a:gdLst>
              <a:gd name="textAreaLeft" fmla="*/ 0 w 754200"/>
              <a:gd name="textAreaRight" fmla="*/ 754560 w 7542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1" y="0"/>
                </a:lnTo>
                <a:lnTo>
                  <a:pt x="21600" y="10800"/>
                </a:lnTo>
                <a:lnTo>
                  <a:pt x="185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팀   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58720" y="2259000"/>
            <a:ext cx="754200" cy="243000"/>
          </a:xfrm>
          <a:custGeom>
            <a:avLst/>
            <a:gdLst>
              <a:gd name="textAreaLeft" fmla="*/ 0 w 754200"/>
              <a:gd name="textAreaRight" fmla="*/ 754560 w 7542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1" y="0"/>
                </a:lnTo>
                <a:lnTo>
                  <a:pt x="21600" y="10800"/>
                </a:lnTo>
                <a:lnTo>
                  <a:pt x="185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팀   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7600" y="2944800"/>
            <a:ext cx="305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25%                                     60%                      1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33440" y="1625760"/>
            <a:ext cx="27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50%                      25%                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90960" y="1541520"/>
            <a:ext cx="307836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프로젝트 시스템과 경영혁신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한국산업훈련연구소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자기혁명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한국능률협회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업무 테크닉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더난 출판사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획포인트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2000, IIS 3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인터넷 서버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&lt;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만화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마케팅 입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게임 디자인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프로젝트 관리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게임관련 해외 대학 학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http://www.gamasutra.com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00880" y="1173240"/>
            <a:ext cx="2116080" cy="322200"/>
          </a:xfrm>
          <a:prstGeom prst="hexagon">
            <a:avLst>
              <a:gd name="adj" fmla="val 56159"/>
              <a:gd name="vf" fmla="val 11547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참고 서적 및 사이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431120" y="3510000"/>
            <a:ext cx="914400" cy="317520"/>
          </a:xfrm>
          <a:prstGeom prst="borderCallout1">
            <a:avLst>
              <a:gd name="adj1" fmla="val 18750"/>
              <a:gd name="adj2" fmla="val -8333"/>
              <a:gd name="adj3" fmla="val 66500"/>
              <a:gd name="adj4" fmla="val -90800"/>
            </a:avLst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431120" y="3990960"/>
            <a:ext cx="914400" cy="317520"/>
          </a:xfrm>
          <a:prstGeom prst="borderCallout1">
            <a:avLst>
              <a:gd name="adj1" fmla="val 18750"/>
              <a:gd name="adj2" fmla="val -8333"/>
              <a:gd name="adj3" fmla="val 54500"/>
              <a:gd name="adj4" fmla="val -90972"/>
            </a:avLst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431120" y="4471920"/>
            <a:ext cx="914400" cy="317520"/>
          </a:xfrm>
          <a:prstGeom prst="borderCallout1">
            <a:avLst>
              <a:gd name="adj1" fmla="val 18750"/>
              <a:gd name="adj2" fmla="val -8333"/>
              <a:gd name="adj3" fmla="val 58500"/>
              <a:gd name="adj4" fmla="val -89412"/>
            </a:avLst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431120" y="4952880"/>
            <a:ext cx="914400" cy="317520"/>
          </a:xfrm>
          <a:prstGeom prst="borderCallout1">
            <a:avLst>
              <a:gd name="adj1" fmla="val 18750"/>
              <a:gd name="adj2" fmla="val -8333"/>
              <a:gd name="adj3" fmla="val 82000"/>
              <a:gd name="adj4" fmla="val -90800"/>
            </a:avLst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31120" y="5435640"/>
            <a:ext cx="914400" cy="317520"/>
          </a:xfrm>
          <a:prstGeom prst="borderCallout1">
            <a:avLst>
              <a:gd name="adj1" fmla="val 18750"/>
              <a:gd name="adj2" fmla="val -8333"/>
              <a:gd name="adj3" fmla="val 78000"/>
              <a:gd name="adj4" fmla="val -93402"/>
            </a:avLst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130400"/>
            <a:ext cx="20588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좋은 게임 만드는 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27440" y="1828800"/>
            <a:ext cx="3539880" cy="3635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626080" y="4254480"/>
            <a:ext cx="1994040" cy="1320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cbcbcb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통합된 게임 이미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적합한 기술 적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적절한 밸런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32440" y="3903840"/>
            <a:ext cx="1382760" cy="6681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제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0520" y="4254480"/>
            <a:ext cx="1994040" cy="1320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cbcbcb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컨센서스 형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정확한 업무 분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체계적인 일정 관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5440" y="3903840"/>
            <a:ext cx="1382400" cy="6681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968480"/>
            <a:ext cx="1994040" cy="1320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cbcbcb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창의적인 아이디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명확화한 컨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현실적인 개발 목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13200" y="1623960"/>
            <a:ext cx="1380960" cy="6685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기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05560" y="366840"/>
            <a:ext cx="1081080" cy="26352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좋은 게임이란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3760" y="366840"/>
            <a:ext cx="1449360" cy="26496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64" y="0"/>
                </a:lnTo>
                <a:lnTo>
                  <a:pt x="21600" y="10800"/>
                </a:lnTo>
                <a:lnTo>
                  <a:pt x="17764" y="21600"/>
                </a:lnTo>
                <a:lnTo>
                  <a:pt x="0" y="21600"/>
                </a:lnTo>
                <a:lnTo>
                  <a:pt x="3836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좋은 게임 만드는 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41880" y="1673280"/>
            <a:ext cx="725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182000" y="3860640"/>
            <a:ext cx="591840" cy="711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989440" y="3956040"/>
            <a:ext cx="7459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49440" y="419040"/>
            <a:ext cx="1336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돋움"/>
              </a:rPr>
              <a:t>기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기획이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9840" y="1468440"/>
            <a:ext cx="7475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企劃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이란 것은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꾀함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企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을 세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劃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'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라는 뜻인데 반해 계획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計劃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헤아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計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을 세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劃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'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라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하여 궁극적인 의미가 다르다는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획이란 아래의 세가지를 설정하는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01960" y="2273400"/>
            <a:ext cx="4894200" cy="213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56120" y="2689200"/>
            <a:ext cx="2597040" cy="13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17800" y="2500200"/>
            <a:ext cx="1023840" cy="3398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기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41880" y="2523960"/>
            <a:ext cx="1008000" cy="360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계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6800" y="2906640"/>
            <a:ext cx="1611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무엇을 할 것인가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무엇을 만들 것인가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무엇이 될 것인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35560" y="2894040"/>
            <a:ext cx="1611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어떻게 할 것인가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무엇을 할 것인가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돋움"/>
              </a:rPr>
              <a:t>어떠한 방법이 가능한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5080" y="4518000"/>
            <a:ext cx="1463400" cy="1007280"/>
          </a:xfrm>
          <a:prstGeom prst="borderCallout2">
            <a:avLst>
              <a:gd name="adj1" fmla="val 18750"/>
              <a:gd name="adj2" fmla="val -8333"/>
              <a:gd name="adj3" fmla="val 10680"/>
              <a:gd name="adj4" fmla="val 124513"/>
              <a:gd name="adj5" fmla="val -31972"/>
              <a:gd name="adj6" fmla="val 14488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통합 기획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컨셉 정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특징 기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시스템 요구 사양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마케팅 전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53160" y="4067280"/>
            <a:ext cx="1463760" cy="1616400"/>
          </a:xfrm>
          <a:prstGeom prst="borderCallout2">
            <a:avLst>
              <a:gd name="adj1" fmla="val 18750"/>
              <a:gd name="adj2" fmla="val -8333"/>
              <a:gd name="adj3" fmla="val 10013"/>
              <a:gd name="adj4" fmla="val -42189"/>
              <a:gd name="adj5" fmla="val -11462"/>
              <a:gd name="adj6" fmla="val -814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개발 계획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시나리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스토리보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스테이지 계획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프로그래밍 계획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그래픽 계획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운드 계획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전체 일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종합 예산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25800" y="4938840"/>
            <a:ext cx="1049400" cy="27468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요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9200" y="4938840"/>
            <a:ext cx="1049040" cy="274680"/>
          </a:xfrm>
          <a:custGeom>
            <a:avLst/>
            <a:gdLst>
              <a:gd name="textAreaLeft" fmla="*/ 360 w 1049040"/>
              <a:gd name="textAreaRight" fmla="*/ 1049760 w 10490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요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87880" y="4791240"/>
            <a:ext cx="1000080" cy="582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  <a:ea typeface="돋움"/>
              </a:rPr>
              <a:t>제안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379440"/>
            <a:ext cx="696960" cy="263520"/>
          </a:xfrm>
          <a:custGeom>
            <a:avLst/>
            <a:gdLst>
              <a:gd name="textAreaLeft" fmla="*/ 0 w 696960"/>
              <a:gd name="textAreaRight" fmla="*/ 697320 w 696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이란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08360" y="379440"/>
            <a:ext cx="866880" cy="263520"/>
          </a:xfrm>
          <a:custGeom>
            <a:avLst/>
            <a:gdLst>
              <a:gd name="textAreaLeft" fmla="*/ 0 w 866880"/>
              <a:gd name="textAreaRight" fmla="*/ 867240 w 866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발상 기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72200" y="379440"/>
            <a:ext cx="1189080" cy="264960"/>
          </a:xfrm>
          <a:custGeom>
            <a:avLst/>
            <a:gdLst>
              <a:gd name="textAreaLeft" fmla="*/ 0 w 1189080"/>
              <a:gd name="textAreaRight" fmla="*/ 1189440 w 11890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9" y="0"/>
                </a:lnTo>
                <a:lnTo>
                  <a:pt x="21600" y="10800"/>
                </a:lnTo>
                <a:lnTo>
                  <a:pt x="18399" y="21600"/>
                </a:lnTo>
                <a:lnTo>
                  <a:pt x="0" y="21600"/>
                </a:lnTo>
                <a:lnTo>
                  <a:pt x="3201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아이디어의 평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9960" y="379440"/>
            <a:ext cx="892080" cy="263520"/>
          </a:xfrm>
          <a:custGeom>
            <a:avLst/>
            <a:gdLst>
              <a:gd name="textAreaLeft" fmla="*/ 0 w 892080"/>
              <a:gd name="textAreaRight" fmla="*/ 892440 w 89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3" y="0"/>
                </a:lnTo>
                <a:lnTo>
                  <a:pt x="21600" y="10800"/>
                </a:lnTo>
                <a:lnTo>
                  <a:pt x="17103" y="21600"/>
                </a:lnTo>
                <a:lnTo>
                  <a:pt x="0" y="21600"/>
                </a:lnTo>
                <a:lnTo>
                  <a:pt x="449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목표 설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46920" y="379440"/>
            <a:ext cx="988920" cy="264960"/>
          </a:xfrm>
          <a:custGeom>
            <a:avLst/>
            <a:gdLst>
              <a:gd name="textAreaLeft" fmla="*/ 0 w 988920"/>
              <a:gd name="textAreaRight" fmla="*/ 988920 w 9889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4" y="0"/>
                </a:lnTo>
                <a:lnTo>
                  <a:pt x="21600" y="10800"/>
                </a:lnTo>
                <a:lnTo>
                  <a:pt x="18064" y="21600"/>
                </a:lnTo>
                <a:lnTo>
                  <a:pt x="0" y="21600"/>
                </a:lnTo>
                <a:lnTo>
                  <a:pt x="3536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작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240" y="379440"/>
            <a:ext cx="974880" cy="263520"/>
          </a:xfrm>
          <a:custGeom>
            <a:avLst/>
            <a:gdLst>
              <a:gd name="textAreaLeft" fmla="*/ 0 w 974880"/>
              <a:gd name="textAreaRight" fmla="*/ 975240 w 974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0" y="0"/>
                </a:lnTo>
                <a:lnTo>
                  <a:pt x="21600" y="10800"/>
                </a:lnTo>
                <a:lnTo>
                  <a:pt x="17590" y="21600"/>
                </a:lnTo>
                <a:lnTo>
                  <a:pt x="0" y="21600"/>
                </a:lnTo>
                <a:lnTo>
                  <a:pt x="401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 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1800" y="2529000"/>
            <a:ext cx="498240" cy="46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897520" y="2881440"/>
            <a:ext cx="44604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92280" y="1930320"/>
            <a:ext cx="5479920" cy="3946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발상 기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476440"/>
            <a:ext cx="2127240" cy="3213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8400" y="2174760"/>
            <a:ext cx="1485720" cy="54936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4" y="0"/>
                </a:lnTo>
                <a:lnTo>
                  <a:pt x="21600" y="10800"/>
                </a:lnTo>
                <a:lnTo>
                  <a:pt x="1827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브레인 스토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Brain Storming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기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00080" y="2541600"/>
            <a:ext cx="12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2455920"/>
            <a:ext cx="2174760" cy="3213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78240" y="2154240"/>
            <a:ext cx="1485720" cy="54936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4" y="0"/>
                </a:lnTo>
                <a:lnTo>
                  <a:pt x="21600" y="10800"/>
                </a:lnTo>
                <a:lnTo>
                  <a:pt x="1827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체크 리스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ck List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기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09920" y="2521080"/>
            <a:ext cx="12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666880" y="1219320"/>
            <a:ext cx="1459080" cy="806400"/>
            <a:chOff x="2666880" y="1219320"/>
            <a:chExt cx="1459080" cy="806400"/>
          </a:xfrm>
        </p:grpSpPr>
        <p:sp>
          <p:nvSpPr>
            <p:cNvPr id="164" name=""/>
            <p:cNvSpPr/>
            <p:nvPr/>
          </p:nvSpPr>
          <p:spPr>
            <a:xfrm>
              <a:off x="2666880" y="1219320"/>
              <a:ext cx="1459080" cy="8064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978280" y="1302480"/>
              <a:ext cx="809640" cy="639360"/>
              <a:chOff x="2978280" y="1302480"/>
              <a:chExt cx="809640" cy="63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2978280" y="1734840"/>
                <a:ext cx="658440" cy="2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발 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21840" y="1302480"/>
                <a:ext cx="766080" cy="422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8" name=""/>
          <p:cNvSpPr/>
          <p:nvPr/>
        </p:nvSpPr>
        <p:spPr>
          <a:xfrm>
            <a:off x="14479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테마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                  7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2                  8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3                  9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4                 10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5                  11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6                  12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267080"/>
            <a:ext cx="1524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규 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비판엄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자유분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질보다 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결합개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시간은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시간 정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평가자는 비참가자 반으로 구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2819520"/>
            <a:ext cx="1523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체크 리스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전용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수정없이 다른 곳에 사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응용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약간 변형하여 활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변경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의미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움직임 등 형태변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확대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가치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추가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과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축소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축소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짧게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생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대용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소재를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장소를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재이용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요소를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순서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역전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반전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역할전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결합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브랜드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유니트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아이디어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981080"/>
            <a:ext cx="175248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위기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이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풍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변혁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방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집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1752480"/>
            <a:ext cx="2286000" cy="38124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07" y="0"/>
                </a:lnTo>
                <a:lnTo>
                  <a:pt x="21600" y="10800"/>
                </a:lnTo>
                <a:lnTo>
                  <a:pt x="19707" y="21600"/>
                </a:lnTo>
                <a:lnTo>
                  <a:pt x="0" y="21600"/>
                </a:lnTo>
                <a:lnTo>
                  <a:pt x="1893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Times New Roman"/>
              </a:rPr>
              <a:t>창조적인 발상 조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4038480"/>
            <a:ext cx="17524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심고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마음으로 느낀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사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머리로 생각한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수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손으로 쓰고 시험한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Times New Roman"/>
              </a:rPr>
              <a:t>족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 •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발로 조사한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809880"/>
            <a:ext cx="2286000" cy="38124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07" y="0"/>
                </a:lnTo>
                <a:lnTo>
                  <a:pt x="21600" y="10800"/>
                </a:lnTo>
                <a:lnTo>
                  <a:pt x="19707" y="21600"/>
                </a:lnTo>
                <a:lnTo>
                  <a:pt x="0" y="21600"/>
                </a:lnTo>
                <a:lnTo>
                  <a:pt x="1893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Times New Roman"/>
              </a:rPr>
              <a:t>창조의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1600" spc="-1" strike="noStrike">
                <a:solidFill>
                  <a:srgbClr val="000000"/>
                </a:solidFill>
                <a:latin typeface="Times New Roman"/>
              </a:rPr>
              <a:t>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379440"/>
            <a:ext cx="696960" cy="263520"/>
          </a:xfrm>
          <a:custGeom>
            <a:avLst/>
            <a:gdLst>
              <a:gd name="textAreaLeft" fmla="*/ 0 w 696960"/>
              <a:gd name="textAreaRight" fmla="*/ 697320 w 696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이란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08360" y="379440"/>
            <a:ext cx="866880" cy="263520"/>
          </a:xfrm>
          <a:custGeom>
            <a:avLst/>
            <a:gdLst>
              <a:gd name="textAreaLeft" fmla="*/ 0 w 866880"/>
              <a:gd name="textAreaRight" fmla="*/ 867240 w 866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발상 기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72200" y="379440"/>
            <a:ext cx="1189080" cy="264960"/>
          </a:xfrm>
          <a:custGeom>
            <a:avLst/>
            <a:gdLst>
              <a:gd name="textAreaLeft" fmla="*/ 0 w 1189080"/>
              <a:gd name="textAreaRight" fmla="*/ 1189440 w 11890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9" y="0"/>
                </a:lnTo>
                <a:lnTo>
                  <a:pt x="21600" y="10800"/>
                </a:lnTo>
                <a:lnTo>
                  <a:pt x="18399" y="21600"/>
                </a:lnTo>
                <a:lnTo>
                  <a:pt x="0" y="21600"/>
                </a:lnTo>
                <a:lnTo>
                  <a:pt x="3201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아이디어의 평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9960" y="379440"/>
            <a:ext cx="892080" cy="263520"/>
          </a:xfrm>
          <a:custGeom>
            <a:avLst/>
            <a:gdLst>
              <a:gd name="textAreaLeft" fmla="*/ 0 w 892080"/>
              <a:gd name="textAreaRight" fmla="*/ 892440 w 89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3" y="0"/>
                </a:lnTo>
                <a:lnTo>
                  <a:pt x="21600" y="10800"/>
                </a:lnTo>
                <a:lnTo>
                  <a:pt x="17103" y="21600"/>
                </a:lnTo>
                <a:lnTo>
                  <a:pt x="0" y="21600"/>
                </a:lnTo>
                <a:lnTo>
                  <a:pt x="449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목표 설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46920" y="379440"/>
            <a:ext cx="988920" cy="264960"/>
          </a:xfrm>
          <a:custGeom>
            <a:avLst/>
            <a:gdLst>
              <a:gd name="textAreaLeft" fmla="*/ 0 w 988920"/>
              <a:gd name="textAreaRight" fmla="*/ 988920 w 9889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4" y="0"/>
                </a:lnTo>
                <a:lnTo>
                  <a:pt x="21600" y="10800"/>
                </a:lnTo>
                <a:lnTo>
                  <a:pt x="18064" y="21600"/>
                </a:lnTo>
                <a:lnTo>
                  <a:pt x="0" y="21600"/>
                </a:lnTo>
                <a:lnTo>
                  <a:pt x="3536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작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61240" y="379440"/>
            <a:ext cx="974880" cy="263520"/>
          </a:xfrm>
          <a:custGeom>
            <a:avLst/>
            <a:gdLst>
              <a:gd name="textAreaLeft" fmla="*/ 0 w 974880"/>
              <a:gd name="textAreaRight" fmla="*/ 975240 w 974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0" y="0"/>
                </a:lnTo>
                <a:lnTo>
                  <a:pt x="21600" y="10800"/>
                </a:lnTo>
                <a:lnTo>
                  <a:pt x="17590" y="21600"/>
                </a:lnTo>
                <a:lnTo>
                  <a:pt x="0" y="21600"/>
                </a:lnTo>
                <a:lnTo>
                  <a:pt x="401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 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3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아이디어의 평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3800" y="2357280"/>
            <a:ext cx="4748400" cy="27608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822400"/>
            <a:ext cx="1255680" cy="339840"/>
          </a:xfrm>
          <a:custGeom>
            <a:avLst/>
            <a:gdLst>
              <a:gd name="textAreaLeft" fmla="*/ 0 w 1255680"/>
              <a:gd name="textAreaRight" fmla="*/ 1256040 w 12556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독창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3327480"/>
            <a:ext cx="1255680" cy="339480"/>
          </a:xfrm>
          <a:custGeom>
            <a:avLst/>
            <a:gdLst>
              <a:gd name="textAreaLeft" fmla="*/ 0 w 1255680"/>
              <a:gd name="textAreaRight" fmla="*/ 1256040 w 12556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효과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832200"/>
            <a:ext cx="1255680" cy="339840"/>
          </a:xfrm>
          <a:custGeom>
            <a:avLst/>
            <a:gdLst>
              <a:gd name="textAreaLeft" fmla="*/ 0 w 1255680"/>
              <a:gd name="textAreaRight" fmla="*/ 1256040 w 12556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실현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4338720"/>
            <a:ext cx="1255680" cy="339480"/>
          </a:xfrm>
          <a:custGeom>
            <a:avLst/>
            <a:gdLst>
              <a:gd name="textAreaLeft" fmla="*/ 0 w 1255680"/>
              <a:gd name="textAreaRight" fmla="*/ 1256040 w 12556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경제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0800" y="2860560"/>
            <a:ext cx="696960" cy="263520"/>
          </a:xfrm>
          <a:custGeom>
            <a:avLst/>
            <a:gdLst>
              <a:gd name="textAreaLeft" fmla="*/ 0 w 696960"/>
              <a:gd name="textAreaRight" fmla="*/ 697320 w 696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2860560"/>
            <a:ext cx="755640" cy="263520"/>
          </a:xfrm>
          <a:custGeom>
            <a:avLst/>
            <a:gdLst>
              <a:gd name="textAreaLeft" fmla="*/ 0 w 755640"/>
              <a:gd name="textAreaRight" fmla="*/ 756000 w 755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91080" y="2860560"/>
            <a:ext cx="755640" cy="263520"/>
          </a:xfrm>
          <a:custGeom>
            <a:avLst/>
            <a:gdLst>
              <a:gd name="textAreaLeft" fmla="*/ 0 w 755640"/>
              <a:gd name="textAreaRight" fmla="*/ 756000 w 755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57720" y="2860560"/>
            <a:ext cx="755640" cy="263520"/>
          </a:xfrm>
          <a:custGeom>
            <a:avLst/>
            <a:gdLst>
              <a:gd name="textAreaLeft" fmla="*/ 0 w 755640"/>
              <a:gd name="textAreaRight" fmla="*/ 756000 w 755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24360" y="2860560"/>
            <a:ext cx="754200" cy="263520"/>
          </a:xfrm>
          <a:custGeom>
            <a:avLst/>
            <a:gdLst>
              <a:gd name="textAreaLeft" fmla="*/ 0 w 754200"/>
              <a:gd name="textAreaRight" fmla="*/ 754560 w 7542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20800" y="3365640"/>
            <a:ext cx="696960" cy="261720"/>
          </a:xfrm>
          <a:custGeom>
            <a:avLst/>
            <a:gdLst>
              <a:gd name="textAreaLeft" fmla="*/ 0 w 696960"/>
              <a:gd name="textAreaRight" fmla="*/ 697320 w 6969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3365640"/>
            <a:ext cx="755640" cy="261720"/>
          </a:xfrm>
          <a:custGeom>
            <a:avLst/>
            <a:gdLst>
              <a:gd name="textAreaLeft" fmla="*/ 0 w 755640"/>
              <a:gd name="textAreaRight" fmla="*/ 756000 w 7556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91080" y="3365640"/>
            <a:ext cx="755640" cy="261720"/>
          </a:xfrm>
          <a:custGeom>
            <a:avLst/>
            <a:gdLst>
              <a:gd name="textAreaLeft" fmla="*/ 0 w 755640"/>
              <a:gd name="textAreaRight" fmla="*/ 756000 w 7556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7720" y="3365640"/>
            <a:ext cx="755640" cy="261720"/>
          </a:xfrm>
          <a:custGeom>
            <a:avLst/>
            <a:gdLst>
              <a:gd name="textAreaLeft" fmla="*/ 0 w 755640"/>
              <a:gd name="textAreaRight" fmla="*/ 756000 w 7556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24360" y="3365640"/>
            <a:ext cx="754200" cy="261720"/>
          </a:xfrm>
          <a:custGeom>
            <a:avLst/>
            <a:gdLst>
              <a:gd name="textAreaLeft" fmla="*/ 0 w 754200"/>
              <a:gd name="textAreaRight" fmla="*/ 754560 w 75420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20800" y="3870360"/>
            <a:ext cx="696960" cy="262080"/>
          </a:xfrm>
          <a:custGeom>
            <a:avLst/>
            <a:gdLst>
              <a:gd name="textAreaLeft" fmla="*/ 0 w 696960"/>
              <a:gd name="textAreaRight" fmla="*/ 697320 w 6969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3870360"/>
            <a:ext cx="755640" cy="262080"/>
          </a:xfrm>
          <a:custGeom>
            <a:avLst/>
            <a:gdLst>
              <a:gd name="textAreaLeft" fmla="*/ 0 w 755640"/>
              <a:gd name="textAreaRight" fmla="*/ 756000 w 755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91080" y="3870360"/>
            <a:ext cx="755640" cy="262080"/>
          </a:xfrm>
          <a:custGeom>
            <a:avLst/>
            <a:gdLst>
              <a:gd name="textAreaLeft" fmla="*/ 0 w 755640"/>
              <a:gd name="textAreaRight" fmla="*/ 756000 w 755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57720" y="3870360"/>
            <a:ext cx="755640" cy="262080"/>
          </a:xfrm>
          <a:custGeom>
            <a:avLst/>
            <a:gdLst>
              <a:gd name="textAreaLeft" fmla="*/ 0 w 755640"/>
              <a:gd name="textAreaRight" fmla="*/ 756000 w 755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24360" y="3870360"/>
            <a:ext cx="754200" cy="262080"/>
          </a:xfrm>
          <a:custGeom>
            <a:avLst/>
            <a:gdLst>
              <a:gd name="textAreaLeft" fmla="*/ 0 w 754200"/>
              <a:gd name="textAreaRight" fmla="*/ 754560 w 754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0800" y="4373640"/>
            <a:ext cx="696960" cy="263520"/>
          </a:xfrm>
          <a:custGeom>
            <a:avLst/>
            <a:gdLst>
              <a:gd name="textAreaLeft" fmla="*/ 0 w 696960"/>
              <a:gd name="textAreaRight" fmla="*/ 697320 w 696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4373640"/>
            <a:ext cx="755640" cy="263520"/>
          </a:xfrm>
          <a:custGeom>
            <a:avLst/>
            <a:gdLst>
              <a:gd name="textAreaLeft" fmla="*/ 0 w 755640"/>
              <a:gd name="textAreaRight" fmla="*/ 756000 w 755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91080" y="4373640"/>
            <a:ext cx="755640" cy="263520"/>
          </a:xfrm>
          <a:custGeom>
            <a:avLst/>
            <a:gdLst>
              <a:gd name="textAreaLeft" fmla="*/ 0 w 755640"/>
              <a:gd name="textAreaRight" fmla="*/ 756000 w 755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57720" y="4373640"/>
            <a:ext cx="755640" cy="263520"/>
          </a:xfrm>
          <a:custGeom>
            <a:avLst/>
            <a:gdLst>
              <a:gd name="textAreaLeft" fmla="*/ 0 w 755640"/>
              <a:gd name="textAreaRight" fmla="*/ 756000 w 755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24360" y="4373640"/>
            <a:ext cx="754200" cy="263520"/>
          </a:xfrm>
          <a:custGeom>
            <a:avLst/>
            <a:gdLst>
              <a:gd name="textAreaLeft" fmla="*/ 0 w 754200"/>
              <a:gd name="textAreaRight" fmla="*/ 754560 w 7542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4737240"/>
            <a:ext cx="533520" cy="761760"/>
          </a:xfrm>
          <a:prstGeom prst="upArrowCallout">
            <a:avLst>
              <a:gd name="adj1" fmla="val 25002"/>
              <a:gd name="adj2" fmla="val 25000"/>
              <a:gd name="adj3" fmla="val 23797"/>
              <a:gd name="adj4" fmla="val 6666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매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낮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38560" y="4737240"/>
            <a:ext cx="533520" cy="761760"/>
          </a:xfrm>
          <a:prstGeom prst="upArrowCallout">
            <a:avLst>
              <a:gd name="adj1" fmla="val 25002"/>
              <a:gd name="adj2" fmla="val 25000"/>
              <a:gd name="adj3" fmla="val 23797"/>
              <a:gd name="adj4" fmla="val 6666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낮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737240"/>
            <a:ext cx="533520" cy="761760"/>
          </a:xfrm>
          <a:prstGeom prst="upArrowCallout">
            <a:avLst>
              <a:gd name="adj1" fmla="val 25002"/>
              <a:gd name="adj2" fmla="val 25000"/>
              <a:gd name="adj3" fmla="val 23797"/>
              <a:gd name="adj4" fmla="val 6666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중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81560" y="4737240"/>
            <a:ext cx="533520" cy="761760"/>
          </a:xfrm>
          <a:prstGeom prst="upArrowCallout">
            <a:avLst>
              <a:gd name="adj1" fmla="val 25002"/>
              <a:gd name="adj2" fmla="val 25000"/>
              <a:gd name="adj3" fmla="val 23797"/>
              <a:gd name="adj4" fmla="val 6666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높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4737240"/>
            <a:ext cx="533520" cy="761760"/>
          </a:xfrm>
          <a:prstGeom prst="upArrowCallout">
            <a:avLst>
              <a:gd name="adj1" fmla="val 25002"/>
              <a:gd name="adj2" fmla="val 25000"/>
              <a:gd name="adj3" fmla="val 23797"/>
              <a:gd name="adj4" fmla="val 6666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매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높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77120" y="2222640"/>
            <a:ext cx="1869840" cy="3047760"/>
            <a:chOff x="6477120" y="2222640"/>
            <a:chExt cx="1869840" cy="3047760"/>
          </a:xfrm>
        </p:grpSpPr>
        <p:sp>
          <p:nvSpPr>
            <p:cNvPr id="213" name=""/>
            <p:cNvSpPr/>
            <p:nvPr/>
          </p:nvSpPr>
          <p:spPr>
            <a:xfrm>
              <a:off x="6477120" y="2222640"/>
              <a:ext cx="1869840" cy="3047760"/>
            </a:xfrm>
            <a:prstGeom prst="verticalScroll">
              <a:avLst>
                <a:gd name="adj" fmla="val 1250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총평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채택         </a:t>
              </a:r>
              <a:br>
                <a:rPr sz="1400"/>
              </a:b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보강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보류</a:t>
              </a:r>
              <a:br>
                <a:rPr sz="1400"/>
              </a:b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폐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58000" y="2679480"/>
              <a:ext cx="1120680" cy="380880"/>
            </a:xfrm>
            <a:prstGeom prst="hexagon">
              <a:avLst>
                <a:gd name="adj" fmla="val 46737"/>
                <a:gd name="vf" fmla="val 11547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Times New Roman"/>
                </a:rPr>
                <a:t>평가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3800" y="3390840"/>
              <a:ext cx="228600" cy="2282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43800" y="3713040"/>
              <a:ext cx="228600" cy="2282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43800" y="4037040"/>
              <a:ext cx="228600" cy="2282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43800" y="4359240"/>
              <a:ext cx="228600" cy="2282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43800" y="4682880"/>
              <a:ext cx="228600" cy="2282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359160" y="1663560"/>
            <a:ext cx="1420920" cy="9320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60760" y="2259000"/>
            <a:ext cx="833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돋움"/>
              </a:rPr>
              <a:t>아이디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825720" y="1736640"/>
            <a:ext cx="449280" cy="592200"/>
            <a:chOff x="3825720" y="1736640"/>
            <a:chExt cx="449280" cy="59220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3825720" y="1736640"/>
              <a:ext cx="44928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3891240" y="1815840"/>
              <a:ext cx="330840" cy="39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4114800" y="379440"/>
            <a:ext cx="696960" cy="263520"/>
          </a:xfrm>
          <a:custGeom>
            <a:avLst/>
            <a:gdLst>
              <a:gd name="textAreaLeft" fmla="*/ 0 w 696960"/>
              <a:gd name="textAreaRight" fmla="*/ 697320 w 696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이란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08360" y="379440"/>
            <a:ext cx="866880" cy="263520"/>
          </a:xfrm>
          <a:custGeom>
            <a:avLst/>
            <a:gdLst>
              <a:gd name="textAreaLeft" fmla="*/ 0 w 866880"/>
              <a:gd name="textAreaRight" fmla="*/ 867240 w 866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발상 기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72200" y="379440"/>
            <a:ext cx="1189080" cy="264960"/>
          </a:xfrm>
          <a:custGeom>
            <a:avLst/>
            <a:gdLst>
              <a:gd name="textAreaLeft" fmla="*/ 0 w 1189080"/>
              <a:gd name="textAreaRight" fmla="*/ 1189440 w 11890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9" y="0"/>
                </a:lnTo>
                <a:lnTo>
                  <a:pt x="21600" y="10800"/>
                </a:lnTo>
                <a:lnTo>
                  <a:pt x="18399" y="21600"/>
                </a:lnTo>
                <a:lnTo>
                  <a:pt x="0" y="21600"/>
                </a:lnTo>
                <a:lnTo>
                  <a:pt x="3201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아이디어의 평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9960" y="379440"/>
            <a:ext cx="892080" cy="263520"/>
          </a:xfrm>
          <a:custGeom>
            <a:avLst/>
            <a:gdLst>
              <a:gd name="textAreaLeft" fmla="*/ 0 w 892080"/>
              <a:gd name="textAreaRight" fmla="*/ 892440 w 89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3" y="0"/>
                </a:lnTo>
                <a:lnTo>
                  <a:pt x="21600" y="10800"/>
                </a:lnTo>
                <a:lnTo>
                  <a:pt x="17103" y="21600"/>
                </a:lnTo>
                <a:lnTo>
                  <a:pt x="0" y="21600"/>
                </a:lnTo>
                <a:lnTo>
                  <a:pt x="449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목표 설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6920" y="379440"/>
            <a:ext cx="988920" cy="264960"/>
          </a:xfrm>
          <a:custGeom>
            <a:avLst/>
            <a:gdLst>
              <a:gd name="textAreaLeft" fmla="*/ 0 w 988920"/>
              <a:gd name="textAreaRight" fmla="*/ 988920 w 9889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4" y="0"/>
                </a:lnTo>
                <a:lnTo>
                  <a:pt x="21600" y="10800"/>
                </a:lnTo>
                <a:lnTo>
                  <a:pt x="18064" y="21600"/>
                </a:lnTo>
                <a:lnTo>
                  <a:pt x="0" y="21600"/>
                </a:lnTo>
                <a:lnTo>
                  <a:pt x="3536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작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61240" y="379440"/>
            <a:ext cx="974880" cy="263520"/>
          </a:xfrm>
          <a:custGeom>
            <a:avLst/>
            <a:gdLst>
              <a:gd name="textAreaLeft" fmla="*/ 0 w 974880"/>
              <a:gd name="textAreaRight" fmla="*/ 975240 w 974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0" y="0"/>
                </a:lnTo>
                <a:lnTo>
                  <a:pt x="21600" y="10800"/>
                </a:lnTo>
                <a:lnTo>
                  <a:pt x="17590" y="21600"/>
                </a:lnTo>
                <a:lnTo>
                  <a:pt x="0" y="21600"/>
                </a:lnTo>
                <a:lnTo>
                  <a:pt x="401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 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4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목표 설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828800"/>
            <a:ext cx="2209680" cy="411480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Times New Roman"/>
              </a:rPr>
              <a:t>목표설정을 위해 준비한다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조사된 자료를 분석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분석한 자료로 팀장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회의를 통해 컨셉을 잡는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Times New Roman"/>
              </a:rPr>
              <a:t>목표를 설정한다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제작하려는 게임의 특징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정리한다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부문별 작업 계획에 대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팀장 회의를 통해 팀별 목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를 설정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Times New Roman"/>
              </a:rPr>
              <a:t>목표회의를 갖는다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팀장과 전체적인 목표에 대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컨센서스 미팅을 갖는다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1523880"/>
            <a:ext cx="2209680" cy="38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기획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1828800"/>
            <a:ext cx="2210040" cy="411480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담당 업무에 대한 역할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명확히 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조사된 자료를 바탕으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정보를 정리하여 제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설정된 목표를 통해 무엇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어느 정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언제까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어떻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달성할 것인가를 기술하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팀원과 목표 실행을 위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세부 실천 계획을 작성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523880"/>
            <a:ext cx="2210040" cy="38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팀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1828800"/>
            <a:ext cx="2361960" cy="411480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관련 분야별 기술동향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악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목표설정을 위한 자료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준비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담당한 업무에 대한 우선순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를 두고 중점 목표를 정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언제까지” 할 것인가 정함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어느 정도” 할 것인가 정함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목표 설정을 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팀장과 회의하여 최종 결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1523880"/>
            <a:ext cx="2361960" cy="38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팀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905120"/>
            <a:ext cx="7537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124080"/>
            <a:ext cx="753732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4800600"/>
            <a:ext cx="7537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66480" y="1905120"/>
            <a:ext cx="624240" cy="533160"/>
            <a:chOff x="366480" y="1905120"/>
            <a:chExt cx="624240" cy="533160"/>
          </a:xfrm>
        </p:grpSpPr>
        <p:sp>
          <p:nvSpPr>
            <p:cNvPr id="242" name=""/>
            <p:cNvSpPr/>
            <p:nvPr/>
          </p:nvSpPr>
          <p:spPr>
            <a:xfrm rot="5400000">
              <a:off x="411840" y="1859760"/>
              <a:ext cx="533160" cy="623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6840" y="1981080"/>
              <a:ext cx="6238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단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66480" y="3124080"/>
            <a:ext cx="624240" cy="533160"/>
            <a:chOff x="366480" y="3124080"/>
            <a:chExt cx="624240" cy="533160"/>
          </a:xfrm>
        </p:grpSpPr>
        <p:sp>
          <p:nvSpPr>
            <p:cNvPr id="245" name=""/>
            <p:cNvSpPr/>
            <p:nvPr/>
          </p:nvSpPr>
          <p:spPr>
            <a:xfrm rot="5400000">
              <a:off x="411840" y="3078720"/>
              <a:ext cx="533160" cy="623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6840" y="3200040"/>
              <a:ext cx="6238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단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6480" y="4800600"/>
            <a:ext cx="624240" cy="533160"/>
            <a:chOff x="366480" y="4800600"/>
            <a:chExt cx="624240" cy="533160"/>
          </a:xfrm>
        </p:grpSpPr>
        <p:sp>
          <p:nvSpPr>
            <p:cNvPr id="248" name=""/>
            <p:cNvSpPr/>
            <p:nvPr/>
          </p:nvSpPr>
          <p:spPr>
            <a:xfrm rot="5400000">
              <a:off x="411840" y="4755240"/>
              <a:ext cx="533160" cy="623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40" y="4876560"/>
              <a:ext cx="6238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단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114800" y="379440"/>
            <a:ext cx="696960" cy="263520"/>
          </a:xfrm>
          <a:custGeom>
            <a:avLst/>
            <a:gdLst>
              <a:gd name="textAreaLeft" fmla="*/ 0 w 696960"/>
              <a:gd name="textAreaRight" fmla="*/ 697320 w 696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이란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08360" y="379440"/>
            <a:ext cx="866880" cy="263520"/>
          </a:xfrm>
          <a:custGeom>
            <a:avLst/>
            <a:gdLst>
              <a:gd name="textAreaLeft" fmla="*/ 0 w 866880"/>
              <a:gd name="textAreaRight" fmla="*/ 867240 w 866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발상 기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72200" y="379440"/>
            <a:ext cx="1189080" cy="264960"/>
          </a:xfrm>
          <a:custGeom>
            <a:avLst/>
            <a:gdLst>
              <a:gd name="textAreaLeft" fmla="*/ 0 w 1189080"/>
              <a:gd name="textAreaRight" fmla="*/ 1189440 w 11890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9" y="0"/>
                </a:lnTo>
                <a:lnTo>
                  <a:pt x="21600" y="10800"/>
                </a:lnTo>
                <a:lnTo>
                  <a:pt x="18399" y="21600"/>
                </a:lnTo>
                <a:lnTo>
                  <a:pt x="0" y="21600"/>
                </a:lnTo>
                <a:lnTo>
                  <a:pt x="3201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아이디어의 평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9960" y="379440"/>
            <a:ext cx="892080" cy="263520"/>
          </a:xfrm>
          <a:custGeom>
            <a:avLst/>
            <a:gdLst>
              <a:gd name="textAreaLeft" fmla="*/ 0 w 892080"/>
              <a:gd name="textAreaRight" fmla="*/ 892440 w 89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3" y="0"/>
                </a:lnTo>
                <a:lnTo>
                  <a:pt x="21600" y="10800"/>
                </a:lnTo>
                <a:lnTo>
                  <a:pt x="17103" y="21600"/>
                </a:lnTo>
                <a:lnTo>
                  <a:pt x="0" y="21600"/>
                </a:lnTo>
                <a:lnTo>
                  <a:pt x="4497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목표 설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46920" y="379440"/>
            <a:ext cx="988920" cy="264960"/>
          </a:xfrm>
          <a:custGeom>
            <a:avLst/>
            <a:gdLst>
              <a:gd name="textAreaLeft" fmla="*/ 0 w 988920"/>
              <a:gd name="textAreaRight" fmla="*/ 988920 w 9889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4" y="0"/>
                </a:lnTo>
                <a:lnTo>
                  <a:pt x="21600" y="10800"/>
                </a:lnTo>
                <a:lnTo>
                  <a:pt x="18064" y="21600"/>
                </a:lnTo>
                <a:lnTo>
                  <a:pt x="0" y="21600"/>
                </a:lnTo>
                <a:lnTo>
                  <a:pt x="3536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작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61240" y="379440"/>
            <a:ext cx="974880" cy="263520"/>
          </a:xfrm>
          <a:custGeom>
            <a:avLst/>
            <a:gdLst>
              <a:gd name="textAreaLeft" fmla="*/ 0 w 974880"/>
              <a:gd name="textAreaRight" fmla="*/ 975240 w 974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0" y="0"/>
                </a:lnTo>
                <a:lnTo>
                  <a:pt x="21600" y="10800"/>
                </a:lnTo>
                <a:lnTo>
                  <a:pt x="17590" y="21600"/>
                </a:lnTo>
                <a:lnTo>
                  <a:pt x="0" y="21600"/>
                </a:lnTo>
                <a:lnTo>
                  <a:pt x="401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 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5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기획서작성까지의 프로세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076400" y="4486320"/>
            <a:ext cx="6526080" cy="541440"/>
          </a:xfrm>
          <a:custGeom>
            <a:avLst/>
            <a:gdLst>
              <a:gd name="textAreaLeft" fmla="*/ 360 w 6526080"/>
              <a:gd name="textAreaRight" fmla="*/ 6526800 w 652608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24" y="0"/>
                </a:lnTo>
                <a:lnTo>
                  <a:pt x="21600" y="10800"/>
                </a:lnTo>
                <a:lnTo>
                  <a:pt x="204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06360" y="2246400"/>
            <a:ext cx="6523200" cy="541080"/>
          </a:xfrm>
          <a:custGeom>
            <a:avLst/>
            <a:gdLst>
              <a:gd name="textAreaLeft" fmla="*/ 0 w 6523200"/>
              <a:gd name="textAreaRight" fmla="*/ 6523560 w 652320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24" y="0"/>
                </a:lnTo>
                <a:lnTo>
                  <a:pt x="21600" y="10800"/>
                </a:lnTo>
                <a:lnTo>
                  <a:pt x="204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517840"/>
            <a:ext cx="453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정보 분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81720" y="4772160"/>
            <a:ext cx="452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기획안 구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525760"/>
            <a:ext cx="450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과제 결정 및 해결 방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2517840"/>
            <a:ext cx="454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정보 수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4772160"/>
            <a:ext cx="454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종합 정리 및 조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44760" y="4772160"/>
            <a:ext cx="452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기획서 완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49680" y="3862440"/>
            <a:ext cx="603360" cy="792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165720" y="1787400"/>
            <a:ext cx="673200" cy="679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594480" y="4000680"/>
            <a:ext cx="712800" cy="6476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971960" y="4772160"/>
            <a:ext cx="4525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계획서 작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3235320" y="1773360"/>
            <a:ext cx="598320" cy="674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924680" y="2971800"/>
            <a:ext cx="381240" cy="1612800"/>
          </a:xfrm>
          <a:custGeom>
            <a:avLst/>
            <a:gdLst>
              <a:gd name="textAreaLeft" fmla="*/ 51120 w 381240"/>
              <a:gd name="textAreaRight" fmla="*/ 330120 w 381240"/>
              <a:gd name="textAreaTop" fmla="*/ 282240 h 1612800"/>
              <a:gd name="textAreaBottom" fmla="*/ 1169280 h 161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76200" y="2522520"/>
            <a:ext cx="454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기획의 방향 결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743200"/>
            <a:ext cx="62485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기획의 방향 결정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선정된 아이디어를 기반으로 알맞은 게임의 방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장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특징 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정보의 수집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기획이 단순한 착상이 아님을 증명하기 위한 다양하고 객관적인 자료 수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정보 분석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수집된 자료를 토대로 문제점을 파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분석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과제의 결정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분석한 자료를 토대로 개발하여야 할 게임의 조건을 명시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5029200"/>
            <a:ext cx="62485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획안 구상  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명시한 게임의 조건을 개발하기 위한 전략을 구상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계획서 작성  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구상한 내용을 토대로 각 팀별 제작 계획을 세운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합 정리 및 조정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팀별 제작 계획을 취합하여 개발 일정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수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업무 분장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예산을 잡는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획서 완성  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종합 기획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팀별 개발 계획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전체 요약 기획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제안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를 작성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1646280" y="1766880"/>
            <a:ext cx="844560" cy="6523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4448160" y="1690560"/>
            <a:ext cx="855720" cy="800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>
            <a:off x="5116680" y="3855960"/>
            <a:ext cx="765000" cy="779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1716120" y="3962520"/>
            <a:ext cx="799920" cy="663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114800" y="379440"/>
            <a:ext cx="696960" cy="263520"/>
          </a:xfrm>
          <a:custGeom>
            <a:avLst/>
            <a:gdLst>
              <a:gd name="textAreaLeft" fmla="*/ 0 w 696960"/>
              <a:gd name="textAreaRight" fmla="*/ 697320 w 696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이란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08360" y="379440"/>
            <a:ext cx="866880" cy="263520"/>
          </a:xfrm>
          <a:custGeom>
            <a:avLst/>
            <a:gdLst>
              <a:gd name="textAreaLeft" fmla="*/ 0 w 866880"/>
              <a:gd name="textAreaRight" fmla="*/ 867240 w 866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발상 기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72200" y="379440"/>
            <a:ext cx="1189080" cy="264960"/>
          </a:xfrm>
          <a:custGeom>
            <a:avLst/>
            <a:gdLst>
              <a:gd name="textAreaLeft" fmla="*/ 0 w 1189080"/>
              <a:gd name="textAreaRight" fmla="*/ 1189440 w 11890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9" y="0"/>
                </a:lnTo>
                <a:lnTo>
                  <a:pt x="21600" y="10800"/>
                </a:lnTo>
                <a:lnTo>
                  <a:pt x="18399" y="21600"/>
                </a:lnTo>
                <a:lnTo>
                  <a:pt x="0" y="21600"/>
                </a:lnTo>
                <a:lnTo>
                  <a:pt x="3201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아이디어의 평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9960" y="379440"/>
            <a:ext cx="892080" cy="263520"/>
          </a:xfrm>
          <a:custGeom>
            <a:avLst/>
            <a:gdLst>
              <a:gd name="textAreaLeft" fmla="*/ 0 w 892080"/>
              <a:gd name="textAreaRight" fmla="*/ 892440 w 89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3" y="0"/>
                </a:lnTo>
                <a:lnTo>
                  <a:pt x="21600" y="10800"/>
                </a:lnTo>
                <a:lnTo>
                  <a:pt x="17103" y="21600"/>
                </a:lnTo>
                <a:lnTo>
                  <a:pt x="0" y="21600"/>
                </a:lnTo>
                <a:lnTo>
                  <a:pt x="449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목표 설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46920" y="379440"/>
            <a:ext cx="988920" cy="264960"/>
          </a:xfrm>
          <a:custGeom>
            <a:avLst/>
            <a:gdLst>
              <a:gd name="textAreaLeft" fmla="*/ 0 w 988920"/>
              <a:gd name="textAreaRight" fmla="*/ 988920 w 9889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4" y="0"/>
                </a:lnTo>
                <a:lnTo>
                  <a:pt x="21600" y="10800"/>
                </a:lnTo>
                <a:lnTo>
                  <a:pt x="18064" y="21600"/>
                </a:lnTo>
                <a:lnTo>
                  <a:pt x="0" y="21600"/>
                </a:lnTo>
                <a:lnTo>
                  <a:pt x="3536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작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61240" y="379440"/>
            <a:ext cx="974880" cy="263520"/>
          </a:xfrm>
          <a:custGeom>
            <a:avLst/>
            <a:gdLst>
              <a:gd name="textAreaLeft" fmla="*/ 0 w 974880"/>
              <a:gd name="textAreaRight" fmla="*/ 975240 w 974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0" y="0"/>
                </a:lnTo>
                <a:lnTo>
                  <a:pt x="21600" y="10800"/>
                </a:lnTo>
                <a:lnTo>
                  <a:pt x="17590" y="21600"/>
                </a:lnTo>
                <a:lnTo>
                  <a:pt x="0" y="21600"/>
                </a:lnTo>
                <a:lnTo>
                  <a:pt x="401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 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292400" y="1658880"/>
            <a:ext cx="6476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00360" y="1695600"/>
            <a:ext cx="1743120" cy="296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총괄 기획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1150920"/>
            <a:ext cx="1474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6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돋움"/>
              </a:rPr>
              <a:t>기획서 작성 내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0600" y="2036880"/>
            <a:ext cx="2062080" cy="375588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획의 의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획의 목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장 조사 및 분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마켓 포지셔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목표 시장 및 전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게임 컨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사양 및 장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나리오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놉시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9800" y="2038320"/>
            <a:ext cx="2209680" cy="375588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조직도 구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업무 분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커뮤니케이션 규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캐릭터 설정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스테이지 연출 보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그래픽 작업 계획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프로그래밍 작업 계획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사운드 작업 계획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전체 제작 일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부문별 세부 제작 일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56240" y="2043000"/>
            <a:ext cx="2209680" cy="3743280"/>
          </a:xfrm>
          <a:prstGeom prst="rect">
            <a:avLst/>
          </a:prstGeom>
          <a:solidFill>
            <a:srgbClr val="eaeaea"/>
          </a:soli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전체 예산 및 투입 일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부문별 세부 예산 집행 계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산출 근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전체 매출 및 손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B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국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해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시장 동향 자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술 동향 자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제작진 프로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기획 요약본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제안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57400" y="2251080"/>
            <a:ext cx="780840" cy="235080"/>
          </a:xfrm>
          <a:custGeom>
            <a:avLst/>
            <a:gdLst>
              <a:gd name="textAreaLeft" fmla="*/ 0 w 780840"/>
              <a:gd name="textAreaRight" fmla="*/ 781200 w 7808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개요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57400" y="3193920"/>
            <a:ext cx="780840" cy="235080"/>
          </a:xfrm>
          <a:custGeom>
            <a:avLst/>
            <a:gdLst>
              <a:gd name="textAreaLeft" fmla="*/ 0 w 780840"/>
              <a:gd name="textAreaRight" fmla="*/ 781200 w 7808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목표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57400" y="4324320"/>
            <a:ext cx="780840" cy="235080"/>
          </a:xfrm>
          <a:custGeom>
            <a:avLst/>
            <a:gdLst>
              <a:gd name="textAreaLeft" fmla="*/ 0 w 780840"/>
              <a:gd name="textAreaRight" fmla="*/ 781200 w 7808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특징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89240" y="2251080"/>
            <a:ext cx="1338480" cy="235080"/>
          </a:xfrm>
          <a:custGeom>
            <a:avLst/>
            <a:gdLst>
              <a:gd name="textAreaLeft" fmla="*/ 0 w 1338480"/>
              <a:gd name="textAreaRight" fmla="*/ 1338840 w 13384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07" y="0"/>
                </a:lnTo>
                <a:lnTo>
                  <a:pt x="21600" y="10800"/>
                </a:lnTo>
                <a:lnTo>
                  <a:pt x="18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프로젝트 구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89240" y="3314880"/>
            <a:ext cx="1128600" cy="23472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07" y="0"/>
                </a:lnTo>
                <a:lnTo>
                  <a:pt x="21600" y="10800"/>
                </a:lnTo>
                <a:lnTo>
                  <a:pt x="18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제작 계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89240" y="4818240"/>
            <a:ext cx="1128600" cy="23472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07" y="0"/>
                </a:lnTo>
                <a:lnTo>
                  <a:pt x="21600" y="10800"/>
                </a:lnTo>
                <a:lnTo>
                  <a:pt x="18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제작 일정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07200" y="2251080"/>
            <a:ext cx="1128600" cy="23508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07" y="0"/>
                </a:lnTo>
                <a:lnTo>
                  <a:pt x="21600" y="10800"/>
                </a:lnTo>
                <a:lnTo>
                  <a:pt x="18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투자 예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07200" y="3314880"/>
            <a:ext cx="1128600" cy="23472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07" y="0"/>
                </a:lnTo>
                <a:lnTo>
                  <a:pt x="21600" y="10800"/>
                </a:lnTo>
                <a:lnTo>
                  <a:pt x="18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손익 분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07200" y="4435560"/>
            <a:ext cx="720720" cy="245880"/>
          </a:xfrm>
          <a:custGeom>
            <a:avLst/>
            <a:gdLst>
              <a:gd name="textAreaLeft" fmla="*/ 0 w 720720"/>
              <a:gd name="textAreaRight" fmla="*/ 721080 w 7207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37" y="0"/>
                </a:lnTo>
                <a:lnTo>
                  <a:pt x="21600" y="10800"/>
                </a:lnTo>
                <a:lnTo>
                  <a:pt x="169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별첨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379440"/>
            <a:ext cx="696960" cy="263520"/>
          </a:xfrm>
          <a:custGeom>
            <a:avLst/>
            <a:gdLst>
              <a:gd name="textAreaLeft" fmla="*/ 0 w 696960"/>
              <a:gd name="textAreaRight" fmla="*/ 697320 w 696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이란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08360" y="379440"/>
            <a:ext cx="866880" cy="263520"/>
          </a:xfrm>
          <a:custGeom>
            <a:avLst/>
            <a:gdLst>
              <a:gd name="textAreaLeft" fmla="*/ 0 w 866880"/>
              <a:gd name="textAreaRight" fmla="*/ 867240 w 866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발상 기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72200" y="379440"/>
            <a:ext cx="1189080" cy="264960"/>
          </a:xfrm>
          <a:custGeom>
            <a:avLst/>
            <a:gdLst>
              <a:gd name="textAreaLeft" fmla="*/ 0 w 1189080"/>
              <a:gd name="textAreaRight" fmla="*/ 1189440 w 11890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9" y="0"/>
                </a:lnTo>
                <a:lnTo>
                  <a:pt x="21600" y="10800"/>
                </a:lnTo>
                <a:lnTo>
                  <a:pt x="18399" y="21600"/>
                </a:lnTo>
                <a:lnTo>
                  <a:pt x="0" y="21600"/>
                </a:lnTo>
                <a:lnTo>
                  <a:pt x="3201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아이디어의 평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9960" y="379440"/>
            <a:ext cx="892080" cy="263520"/>
          </a:xfrm>
          <a:custGeom>
            <a:avLst/>
            <a:gdLst>
              <a:gd name="textAreaLeft" fmla="*/ 0 w 892080"/>
              <a:gd name="textAreaRight" fmla="*/ 892440 w 89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3" y="0"/>
                </a:lnTo>
                <a:lnTo>
                  <a:pt x="21600" y="10800"/>
                </a:lnTo>
                <a:lnTo>
                  <a:pt x="17103" y="21600"/>
                </a:lnTo>
                <a:lnTo>
                  <a:pt x="0" y="21600"/>
                </a:lnTo>
                <a:lnTo>
                  <a:pt x="4497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목표 설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46920" y="379440"/>
            <a:ext cx="988920" cy="264960"/>
          </a:xfrm>
          <a:custGeom>
            <a:avLst/>
            <a:gdLst>
              <a:gd name="textAreaLeft" fmla="*/ 0 w 988920"/>
              <a:gd name="textAreaRight" fmla="*/ 988920 w 9889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4" y="0"/>
                </a:lnTo>
                <a:lnTo>
                  <a:pt x="21600" y="10800"/>
                </a:lnTo>
                <a:lnTo>
                  <a:pt x="18064" y="21600"/>
                </a:lnTo>
                <a:lnTo>
                  <a:pt x="0" y="21600"/>
                </a:lnTo>
                <a:lnTo>
                  <a:pt x="3536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작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61240" y="379440"/>
            <a:ext cx="974880" cy="263520"/>
          </a:xfrm>
          <a:custGeom>
            <a:avLst/>
            <a:gdLst>
              <a:gd name="textAreaLeft" fmla="*/ 0 w 974880"/>
              <a:gd name="textAreaRight" fmla="*/ 975240 w 974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0" y="0"/>
                </a:lnTo>
                <a:lnTo>
                  <a:pt x="21600" y="10800"/>
                </a:lnTo>
                <a:lnTo>
                  <a:pt x="17590" y="21600"/>
                </a:lnTo>
                <a:lnTo>
                  <a:pt x="0" y="21600"/>
                </a:lnTo>
                <a:lnTo>
                  <a:pt x="4010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기획서 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9T12:20:01Z</dcterms:created>
  <dc:creator>유현수</dc:creator>
  <dc:description/>
  <dc:language>en-US</dc:language>
  <cp:lastModifiedBy>류 현수</cp:lastModifiedBy>
  <cp:lastPrinted>1996-12-07T15:23:08Z</cp:lastPrinted>
  <dcterms:modified xsi:type="dcterms:W3CDTF">1996-12-09T20:59:40Z</dcterms:modified>
  <cp:revision>26</cp:revision>
  <dc:subject/>
  <dc:title>슬라이드 제목 없음</dc:title>
</cp:coreProperties>
</file>